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871-1608-4F6B-BAB3-C97FF0E5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8C0-8C4F-4FE5-BC6C-3C613F6F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126-4CAD-429B-AA67-95F9A531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DC2-386A-41DC-82A8-39A76650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909-A847-42DF-8458-9F17E2B8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925-F0EE-47FF-A3DC-0A84A159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4A6-F572-473C-AD82-F1EF4CFE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599-B17F-4F29-A00D-9DFEB809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F11-82FD-424F-AC3F-E577F2A2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62D-1798-4C60-993B-54385FE9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8E1-A6D1-42A7-B925-3D568F0A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EF1-D862-48C1-A298-F90787DD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A7C2-5E27-4050-994F-33EB75EBA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14.xml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image" Target="../media/image6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2666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" y="228600"/>
            <a:ext cx="5722920" cy="16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entury Gothic"/>
              </a:rPr>
              <a:t>A Trip to the Firehou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entury Gothic"/>
              <a:ea typeface="Century Gothic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238880" y="3049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352680" y="1828800"/>
            <a:ext cx="434340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4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02312E-006 C 0.01302 0.00439 0.02326 0.01688 0.03645 0.02104 C 0.04166 0.02821 0.04843 0.02936 0.05555 0.03167 C 0.071 0.04555 0.05989 0.03376 0.07135 0.05063 C 0.07395 0.05433 0.07934 0.06127 0.07934 0.06127 C 0.07604 0.09179 0.07986 0.09757 0.05868 0.1015 C 0.03871 0.10011 0.03177 0.10011 0.01579 0.09503 C 0.01111 0.09526 -0.00938 0.09271 -0.0191 0.09942 C -0.02466 0.10335 -0.03334 0.1163 -0.03334 0.1163 C -0.03629 0.12809 -0.03941 0.13248 -0.04132 0.14589 C -0.0408 0.15422 -0.04184 0.16324 -0.03976 0.1711 C -0.03889 0.1741 -0.03542 0.17387 -0.03334 0.17549 C -0.029 0.17873 -0.025 0.18289 -0.02066 0.18589 C -0.01632 0.1889 -0.00799 0.19445 -0.00486 0.19861 C -0.00191 0.20254 -0.00087 0.20462 0.00312 0.20717 C 0.01371 0.2141 0.02152 0.21896 0.03003 0.23029 C 0.03385 0.24902 0.03611 0.25387 0.03177 0.27907 C 0.0309 0.28416 0.02743 0.28763 0.02534 0.29179 C 0.02448 0.29364 0.02482 0.29641 0.02378 0.29803 C 0.01579 0.31167 0.00486 0.32763 -0.00799 0.33179 C -0.0125 0.33618 -0.01615 0.34243 -0.02223 0.34243 L -0.01268 0.32971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20231E-007 C -0.00416 -0.00555 -0.0052 -0.01017 -0.01111 -0.01271 C -0.01857 -0.02219 -0.02829 -0.02196 -0.03819 -0.02335 C -0.07395 -0.03514 -0.11197 -0.01803 -0.14774 -0.02959 C -0.19201 -0.0252 -0.23663 -0.02497 -0.28107 -0.02335 C -0.3118 -0.02497 -0.33593 -0.02959 -0.36666 -0.02959 L -0.36666 -0.25595 L -0.2493 -0.25156 L -0.25885 -0.06982 E">
                                      <p:cBhvr>
                                        <p:cTn id="7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4724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ruck taken to put out a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495680" y="28954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-0.00301 C 0.04341 -0.00486 0.04896 -0.00763 0.05486 -0.00925 C 0.07066 -0.00786 0.08368 -0.00486 0.09931 -0.00301 C 0.11129 -0.0044 0.12552 0.00162 0.11372 -0.02197 C 0.11337 -0.02266 0.10174 -0.02544 0.09931 -0.02613 C 0.0842 -0.03099 0.07014 -0.03908 0.05486 -0.04324 C 0.05365 -0.04486 0.04532 -0.08995 0.04532 -0.1022 C 0.0448 -0.19584 0.04532 -0.28971 0.04532 -0.38336 E">
                                      <p:cBhvr>
                                        <p:cTn id="9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quipment such as tools or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9480" y="47242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029200" y="3808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68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84 -0.00509 C 0.05452 -0.00116 0.06372 -0.00023 0.07275 0.00116 C 0.08108 0.00462 0.07986 0.0104 0.0823 0.02035 C 0.08108 0.07422 0.07952 0.08601 0.0823 0.13642 C 0.08264 0.14428 0.08386 0.14289 0.08872 0.14497 C 0.13004 0.14243 0.15226 0.14012 0.19827 0.13873 C 0.2 -0.00600999999999999 0.16598 0.00324 0.22049 0.00324 E">
                                      <p:cBhvr>
                                        <p:cTn id="10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arts that control the flow of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480" y="48769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62940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07 0.01618 C 0.02813 0.05965 0.03594 0.16647 0.03594 0.17248 C 0.02188 0.17873 0.0283 0.17642 -0.00052 0.17688 C -0.0434 0.17757 -0.08628 0.17688 -0.12916 0.17688 E">
                                      <p:cBhvr>
                                        <p:cTn id="11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rying to think of the answer t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7242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6248520" y="57913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3733920" y="57913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mer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83237E-006 C 0.00208 0.14589 -0.02899 0.12277 0.05399 0.12277 E">
                                      <p:cBhvr>
                                        <p:cTn id="129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n and women who put out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figh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3" action="ppaction://hlinksldjump"/>
          </p:cNvPr>
          <p:cNvSpPr/>
          <p:nvPr/>
        </p:nvSpPr>
        <p:spPr>
          <a:xfrm>
            <a:off x="62485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715000" y="2438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37339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h no! There is a fire across town. You and your team of fire fighters must put it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tch the vocabulary words to their meaning to get there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ood Luc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5181480"/>
            <a:ext cx="3124080" cy="11239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784872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efe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60694E-006 L 0.14289 0.00024 E">
                                      <p:cBhvr>
                                        <p:cTn id="142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o look at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8880" y="2438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315200" y="2514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914400" y="4572000"/>
            <a:ext cx="7086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Congratulation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You put out the fir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3124080" y="457200"/>
            <a:ext cx="404496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3 -0.04185 C 0.00989 -0.0689 0.01007 -0.08879 0.00451 -0.11376 C 0.00347 -0.13202 0.00208 -0.15491 0.00139 -0.17295 C 0.00034 -0.19723 0.00191 -0.21503 -0.0033 -0.23653 C -0.00486 -0.26752 -0.00729 -0.29896 -0.00174 -0.32948 C -0.00122 -0.33873 -0.00209 -0.34821 -0.00018 -0.357 C 0.00034 -0.35908 0.00295 -0.35908 0.00451 -0.35908 C 0.00937 -0.35908 0.01406 -0.35723 0.01892 -0.357 C 0.02639 -0.35653 0.03368 -0.357 0.04114 -0.357 E">
                                      <p:cBhvr>
                                        <p:cTn id="155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47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1066680" y="5105520"/>
            <a:ext cx="6782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Sorry. 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2133720" y="1295280"/>
            <a:ext cx="4419360" cy="2414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o send a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62485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57200" y="1295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37339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74 -0.03977 C 0.02326 -0.06937 0.02361 -0.09896 0.02448 -0.12856 C 0.02517 -0.15145 0.02205 -0.14613 0.03073 -0.15399 C 0.15607 -0.15168 0.11059 -0.16093 0.16093 -0.14775 C 0.21458 -0.15492 0.27465 -0.15607 0.32916 -0.15607 E">
                                      <p:cBhvr>
                                        <p:cTn id="3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 person who leads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276720" y="3049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0.00509 C 0.03802 0.03538 0.03906 0.06566 0.03906 0.09595 C 0.03906 0.1163 0.03958 0.13688 0.0375 0.15722 C 0.03698 0.16185 0.03125 0.16185 0.02795 0.1637 C 0.02101 0.16763 0.01042 0.16578 0.00417 0.16578 E">
                                      <p:cBhvr>
                                        <p:cTn id="5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4495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blems that happen suddenly and have to be solved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1295280" y="57150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6248520" y="56386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352680" y="1447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6" action="ppaction://hlinksldjump"/>
          </p:cNvPr>
          <p:cNvSpPr/>
          <p:nvPr/>
        </p:nvSpPr>
        <p:spPr>
          <a:xfrm>
            <a:off x="3657600" y="571500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mer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11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34104E-006 C -0.00052 0.05434 -0.00156 0.10845 -0.00156 0.16278 C -0.00156 0.23654 -0.03368 0.31145 0.01736 0.31492 C 0.03333 0.31608 0.04913 0.31631 0.0651 0.317 C 0.08854 0.33897 0.06562 0.31931 0.13802 0.31931 C 0.15868 0.31931 0.17934 0.32232 0.2 0.32347 C 0.28108 0.31977 0.22483 0.32532 0.25712 0.31492 C 0.2783 0.31723 0.29149 0.32001 0.31423 0.32139 C 0.34826 0.32001 0.37187 0.31492 0.40469 0.31492 E">
                                      <p:cBhvr>
                                        <p:cTn id="6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hat people wear, such as coats, shirts, dresses, and 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480" y="48769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3:51:33Z</dcterms:created>
  <dc:creator>SSpangler1</dc:creator>
  <dc:description/>
  <dc:language>en-US</dc:language>
  <cp:lastModifiedBy>Beth Ann</cp:lastModifiedBy>
  <dcterms:modified xsi:type="dcterms:W3CDTF">2009-04-13T01:54:21Z</dcterms:modified>
  <cp:revision>36</cp:revision>
  <dc:subject/>
  <dc:title>Slide 1</dc:title>
</cp:coreProperties>
</file>