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A2F76-8C48-4B71-B922-93D68FEE1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2D5B8-BFB9-4342-A65F-4CA64A3D1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D8AB4-6FC6-48D1-B313-B732BB08A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DCCF4-2730-4E9B-A551-ABA98DE14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3A3C5-8011-4F68-9C10-2CE0DA2D0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878DD-0160-46AA-A5BF-D198F6428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5D4CC-E9B0-4020-A80B-FDF62ADE5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F2D87-DB6A-43BA-ADB6-328F4466E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3B348-FFF7-4247-99E8-CC6F2862F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333DA-C248-4D68-8AA0-36D674D40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113AB-AE0C-4F9B-B0E6-E067D3275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1CACB-B619-4B13-9B81-D37085B73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426DC-5D09-41C2-A50F-052C4882BD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2.scholastic.com/browse/video.jsp?pID=1640149541&amp;bcpid=1640149541&amp;bclid=57826465001&amp;bctid=76958613001" TargetMode="External"/><Relationship Id="rId2" Type="http://schemas.openxmlformats.org/officeDocument/2006/relationships/hyperlink" Target="http://www2.scholastic.com/browse/video.jsp?pID=1640149541&amp;bcpid=1640149541&amp;bclid=57826465001&amp;bctid=76958613001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Lucida Sans Typewriter"/>
              </a:rPr>
              <a:t>Digital Book Tal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torytelling is the art of using language, vocalization, and/or physical movement and gesture to reveal the elements and images of a story to a specific, live audience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--From members of the National Association of Storytell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048120" y="1752480"/>
            <a:ext cx="2801880" cy="201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Digital Book Talk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a review of a book by one person.  It should be short and exciting and should have a cliff hanger.  Its purpose is to sell the book.  It is not a full summa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ok Trailer- very short, action packed video shown to entice the person to read the book.  It has a plot but does not give away ending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en would you use Digital Book Talk in a classroom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-reading 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t reading-If you liked this book, here are some sugg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ok logs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essment-Give book talk after reading a bo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to invite into a center or libr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s/C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ootlight MT Light"/>
              </a:rPr>
              <a:t>Grabs readers atten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ootlight MT Light"/>
              </a:rPr>
              <a:t>Exposes them to different genre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ootlight MT Light"/>
              </a:rPr>
              <a:t>Exposed to different demographics and may relate to th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ootlight MT Light"/>
              </a:rPr>
              <a:t>Can be used in classroom and media center-especially G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ootlight MT Light"/>
              </a:rPr>
              <a:t>Help you meet standar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ootlight MT Light"/>
              </a:rPr>
              <a:t>Helps children practice summarization and identifying elements of the story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ootlight MT Light"/>
              </a:rPr>
              <a:t>Some tend to be commercial like and produced by author or publisher with the intent to sell the book not to entice the person to read the boo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ootlight MT Light"/>
              </a:rPr>
              <a:t>If children do book talks-some of them do not like to talk on camer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ootlight MT Light"/>
              </a:rPr>
              <a:t>Book trailers want to persuade you to read the book-book talks want to excite you about book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ootlight MT Light"/>
              </a:rPr>
              <a:t>Some believe it to be a video recording just reading the book-not all used correct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ootlight MT Light"/>
              </a:rPr>
              <a:t>Not many people can create a book trailer the way it should be made-low budg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ictures/mov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boar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ftwar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oftware Used to Create Digital Stor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99"/>
                </a:solidFill>
                <a:latin typeface="Arial"/>
              </a:rPr>
              <a:t>MAC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99"/>
                </a:solidFill>
                <a:latin typeface="Arial"/>
              </a:rPr>
              <a:t>Ipho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99"/>
                </a:solidFill>
                <a:latin typeface="Arial"/>
              </a:rPr>
              <a:t>Imovi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33"/>
                </a:solidFill>
                <a:latin typeface="Arial"/>
              </a:rPr>
              <a:t>PC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33"/>
                </a:solidFill>
                <a:latin typeface="Arial"/>
              </a:rPr>
              <a:t>Photosto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33"/>
                </a:solidFill>
                <a:latin typeface="Arial"/>
              </a:rPr>
              <a:t>MovieMak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Let’s look at some exampl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fter Ever After</a:t>
            </a:r>
            <a:r>
              <a:rPr b="0" lang="en-US" sz="3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 Book Tal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Black Rabbit Summer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ook Tal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The Arrival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ook Talk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Of Mice and Men Book Trail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The Natural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ook Trail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2T23:01:09Z</dcterms:created>
  <dc:creator>BCPS</dc:creator>
  <dc:description/>
  <dc:language>en-US</dc:language>
  <cp:lastModifiedBy>BCPS</cp:lastModifiedBy>
  <dcterms:modified xsi:type="dcterms:W3CDTF">2010-10-13T21:01:22Z</dcterms:modified>
  <cp:revision>4</cp:revision>
  <dc:subject/>
  <dc:title>Digital ___________</dc:title>
</cp:coreProperties>
</file>