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A4B5-02E0-4DA4-9E39-99514204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FA51-E8DA-4B46-B532-03806DBF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7E06-9DEE-45D1-89F3-0EABF6C9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3CE2-362C-48F1-9D76-DA59D85D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465-7D2C-4F4B-B842-164CAB4E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0D03-E57D-4C24-9BFC-76FA6339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67C4-AEC1-4BE9-962F-E951FD40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3056-7803-4B00-A904-F3722C52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0362-F5CF-456E-8F57-462903E9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4483-51C7-4E9D-8DC2-D3D9D181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10EC-7DB9-4971-B4CA-EA3DAE32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0BD-B803-4516-8D5C-542F2D4B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A8E1-B246-480F-8EE7-0470099CE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tc.scott.k12.ky.us/technology/digitalstorytelling/connor_T1.mov" TargetMode="External"/><Relationship Id="rId2" Type="http://schemas.openxmlformats.org/officeDocument/2006/relationships/hyperlink" Target="http://www.dtc.scott.k12.ky.us/technology/digitalstorytelling/annoyingsister_t1.mov" TargetMode="External"/><Relationship Id="rId3" Type="http://schemas.openxmlformats.org/officeDocument/2006/relationships/hyperlink" Target="http://www.dtc.scott.k12.ky.us/technology/digitalstorytelling/optimism_t1.mov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Storyt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Storytel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digital media to tell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Storytelling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reading or writ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tudies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and Health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s for 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s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excited abou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differen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ing with videos, pictures, and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external artifacts an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s links to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caught up in the design instead of th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of th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actice Makes Per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o brothers or sisters make life f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re you proud to be an Americ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3T21:02:03Z</dcterms:modified>
  <cp:revision>4</cp:revision>
  <dc:subject/>
  <dc:title>Digital ___________</dc:title>
</cp:coreProperties>
</file>