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154-B1D5-45A3-9BEF-4704C36A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B13-1DC0-49AF-BA3B-4C4422EC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F14-D85C-4F87-99D8-9AA9C9E9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936-B561-40EB-9563-1EF944F4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EB6-942E-42E7-9C04-BD7DE980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561-10D0-446E-9C47-1B09CB46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B98-8E77-4B88-A406-658B6E68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2F9-93CB-4F39-857D-9D116DA0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405B-2935-455C-9366-F4513E50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757-2123-4FE0-AD0B-DCB9E372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4C9-F66E-4F2B-9A1D-64AE8855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35D-84CB-49ED-840E-FCE3AB14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8A6B-AC4D-4393-993F-78CA79E44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__________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2T23:28:30Z</dcterms:modified>
  <cp:revision>3</cp:revision>
  <dc:subject/>
  <dc:title>Digital ___________</dc:title>
</cp:coreProperties>
</file>