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736B-BD0A-40C3-AAC1-26C1C4DC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C3C7-6621-4B5E-8020-B4A2C74A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BD9F-2D17-44AA-B39C-84C7BEDE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ECE1-31B1-412D-864B-64B1A748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D3F6-35F6-4DD2-A70E-7D1F4816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7B43-51EF-41FD-B9EB-010FAE4F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B70-C6EB-4A72-BD67-95155B40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EFE7-86E3-4905-9F6D-B73BD781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4BC6-7494-4743-B224-93E238CB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21A5-7FE6-43CE-B879-F8014BF3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95FC-7BAB-4B90-B93D-127AD08F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83FE-D361-4C8B-BCFB-21990B3F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3BC1-0C5C-49F7-BAE5-1C0199D51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2.scholastic.com/browse/video.jsp?pID=1640149541&amp;bcpid=1640149541&amp;bclid=57826465001&amp;bctid=76958613001" TargetMode="External"/><Relationship Id="rId2" Type="http://schemas.openxmlformats.org/officeDocument/2006/relationships/hyperlink" Target="http://www2.scholastic.com/browse/video.jsp?pID=1640149541&amp;bcpid=1640149541&amp;bclid=57826465001&amp;bctid=76958613001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Typewriter"/>
              </a:rPr>
              <a:t>Digital Book Tal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ytelling is the art of using language, vocalization, and/or physical movement and gesture to reveal the elements and images of a story to a specific, live audie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From members of the National Association of Storyt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gital Book Tal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review of a book by one person.  It should be short and exciting and should have a cliff hanger.  Its purpose is to sell the book.  It is not a full sum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Trailer- very short, action packed video shown to entice the person to read the book.  It has a plot but does not give away end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ould you use Digital Book Talk in a classroom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read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reading-If you liked this book, here are some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log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-Give book talk after reading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o invite into a center or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Grabs readers at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Exposes them to different gen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Exposed to different demographics and may relate to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Can be used in classroom and media center-especially G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Help you meet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Helps children practice summarization and identifying elements of the stor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Some tend to be commercial like and produced by author or publisher with the intent to sell the book not to entice the person to read the bo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If children do book talks-some of them do not like to talk on cam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Book trailers want to persuade you to read the book-book talks want to excite you about boo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Some believe it to be a video recording just reading the book-not all used correc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Not many people can create a book trailer the way it should be made-low bud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/mo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Used to Create Digital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M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ph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mov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hoto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ovi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look at som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fter Ever After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Book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Black Rabbit Summe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e Arriv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al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Of Mice and Men Book Tra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e Natur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ra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23:01:09Z</dcterms:created>
  <dc:creator>BCPS</dc:creator>
  <dc:description/>
  <dc:language>en-US</dc:language>
  <cp:lastModifiedBy>BCPS</cp:lastModifiedBy>
  <dcterms:modified xsi:type="dcterms:W3CDTF">2010-10-13T21:01:22Z</dcterms:modified>
  <cp:revision>4</cp:revision>
  <dc:subject/>
  <dc:title>Digital ___________</dc:title>
</cp:coreProperties>
</file>