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A76-C56F-4D92-8B32-B766FD00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E83-D37A-490F-8B0B-0DBB19CB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2EE-6C25-4C72-8282-E36E8B76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4DE-2BD3-418D-9907-A8FEE8DB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CAB-04F6-4437-8835-316C25C0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F83-79EB-476E-B6C4-FCAE8F8C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364-1832-4F35-9615-DB8B7C3D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AB5-9DCE-4833-9132-0F093CF2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756-ECB9-4717-919F-48208088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FEF-6016-493E-AE44-87ECA0B5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499-E0EA-40B6-8412-863B43D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FFF-ADE8-46BD-921A-0739CD42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7400-6B5D-4946-81F0-A7B7620D3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tc.scott.k12.ky.us/technology/digitalstorytelling/connor_T1.mov" TargetMode="External"/><Relationship Id="rId2" Type="http://schemas.openxmlformats.org/officeDocument/2006/relationships/hyperlink" Target="http://www.dtc.scott.k12.ky.us/technology/digitalstorytelling/annoyingsister_t1.mov" TargetMode="External"/><Relationship Id="rId3" Type="http://schemas.openxmlformats.org/officeDocument/2006/relationships/hyperlink" Target="http://www.dtc.scott.k12.ky.us/technology/digitalstorytelling/optimism_t1.m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Storyt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igital media 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Storytelling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ading or wri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Healt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cited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differ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with videos, pictures,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external artifacts an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links to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aught up in the design instead of th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e Makes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 brothers or sisters make life f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e you proud to be an Americ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2:03Z</dcterms:modified>
  <cp:revision>4</cp:revision>
  <dc:subject/>
  <dc:title>Digital ___________</dc:title>
</cp:coreProperties>
</file>