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A212-9EFE-4DA8-972E-C71BD2B3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A47-8098-4A2C-ADC4-B68D4048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9F20-982C-4B52-8D9E-DCF6B572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4400-A4F4-46FD-86A8-2CBAB4B8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68A-E0E5-4CCC-9125-87FF89A1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A5ED-8B74-46EC-A076-F830A281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F7FB-E922-4A29-8A71-9B6E5AC5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07D8-CDD4-4389-AC63-9CA869B2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BC2-4C9A-4773-8D1D-2B4B3322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B94-E192-4DCD-A194-3FA7A967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A992-E5E3-4E50-BD63-9E99A49B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C05-47B9-4E2B-9673-FB456269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F669-0274-4E76-B9DE-23D0C4B77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tc.scott.k12.ky.us/technology/digitalstorytelling/connor_T1.mov" TargetMode="External"/><Relationship Id="rId2" Type="http://schemas.openxmlformats.org/officeDocument/2006/relationships/hyperlink" Target="http://www.dtc.scott.k12.ky.us/technology/digitalstorytelling/annoyingsister_t1.mov" TargetMode="External"/><Relationship Id="rId3" Type="http://schemas.openxmlformats.org/officeDocument/2006/relationships/hyperlink" Target="http://www.dtc.scott.k12.ky.us/technology/digitalstorytelling/optimism_t1.mov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Story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Storyte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digital media to tell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Storytelling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ading or writ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udies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and Health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for 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excited abou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differen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ing with videos, pictures, and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external artifacts an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s links to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caught up in the design instead of th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of th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actice Makes 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o brothers or sisters make life f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re you proud to be an Americ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3T21:02:03Z</dcterms:modified>
  <cp:revision>4</cp:revision>
  <dc:subject/>
  <dc:title>Digital ___________</dc:title>
</cp:coreProperties>
</file>