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04C5-FF41-4BC0-9BAE-213A725C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14E-10AF-452E-834E-8FF802C5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97C-A2AC-4233-9BFE-88D0436F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93CA-4B8C-403C-83C5-DE67802B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A018-DE11-494E-990B-7AE9606D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FAB-EDCE-4850-8969-588C241F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ECA6-B7E1-4D8E-9142-A66CFFEC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A3E2-B31F-4A49-9EE0-A9F0E207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077-AB9C-4219-9C30-B153A298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EA3-24E0-4B4D-97D2-ACD85E7B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110C-AD86-4831-888F-01B03EB6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F887-99EE-4D28-B0DD-FF41D18B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163F-EE28-4A99-9877-D7D4E346A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tc.scott.k12.ky.us/technology/digitalstorytelling/connor_T1.mov" TargetMode="External"/><Relationship Id="rId2" Type="http://schemas.openxmlformats.org/officeDocument/2006/relationships/hyperlink" Target="http://www.dtc.scott.k12.ky.us/technology/digitalstorytelling/annoyingsister_t1.mov" TargetMode="External"/><Relationship Id="rId3" Type="http://schemas.openxmlformats.org/officeDocument/2006/relationships/hyperlink" Target="http://www.dtc.scott.k12.ky.us/technology/digitalstorytelling/optimism_t1.mov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Story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Storyte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digital media to tell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Storytelling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ading or writ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tudies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and Health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for 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excited abou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differen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ing with videos, pictures, and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external artifacts an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s links to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caught up in the design instead of th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of th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actice Makes Per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o brothers or sisters make life f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re you proud to be an Americ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3T21:02:03Z</dcterms:modified>
  <cp:revision>4</cp:revision>
  <dc:subject/>
  <dc:title>Digital ___________</dc:title>
</cp:coreProperties>
</file>