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7430-F7E0-46B5-A569-4B0884C94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9765-1F83-4416-8E53-CA8CEB24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CEF0-6F46-43DA-9564-618A10F1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640F-1FB9-42DD-BC98-DC320C9E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335F-53EC-4118-87AD-ADD76EB3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7238-13B4-4580-89E7-972F8617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FA1D-7BF9-4B7F-9741-577C32C4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1EC8-8E74-49DD-8954-8ECEC089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3F91-E7A9-4BE9-9C0F-7ADE0AF6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557-1ECC-47E2-9741-5921D091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C0D4-3F39-49A0-AE01-7FEA862C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C5B7-2196-45D7-B22A-197445E4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0140-7F52-4EA5-AFA2-7198C52A0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Typewriter"/>
              </a:rPr>
              <a:t>Digital 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ytelling is the art of using language, vocalization, and/or physical movement and gesture to reveal the elements and images of a story to a specific, live audie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From members of the National Association of Storyt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gital ________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ould you use Digital __________ in a classroom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/mo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Used to Create Digital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M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ph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mov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hoto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ovi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look at som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23:01:09Z</dcterms:created>
  <dc:creator>BCPS</dc:creator>
  <dc:description/>
  <dc:language>en-US</dc:language>
  <cp:lastModifiedBy>BCPS</cp:lastModifiedBy>
  <dcterms:modified xsi:type="dcterms:W3CDTF">2010-10-12T23:28:30Z</dcterms:modified>
  <cp:revision>3</cp:revision>
  <dc:subject/>
  <dc:title>Digital ___________</dc:title>
</cp:coreProperties>
</file>