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4C23-156A-41BA-A193-18FB94F4B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C77D-B576-4A85-95B8-0E593CE6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8512-90C4-41FA-AD9A-B2A351591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E3EE-8C5A-4F62-AA67-D4590DD0F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FF02-F6A8-4CC7-8F34-312E2A4AF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303B-9AD7-4241-BC5C-EADA0FF77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5466-0EB8-4D14-A5C5-D39CD0FBD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4CEE-3417-402B-ACA9-55C9F5584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487C-17B6-4D66-A41F-CFEC30429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C90B-A910-447F-BF01-E815F051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8295-AA68-403A-BE72-7761896C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906A-D858-4ED6-B8F5-36270548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14077-B389-4725-B45B-D330A01AF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 Typewriter"/>
              </a:rPr>
              <a:t>Digital 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orytelling is the art of using language, vocalization, and/or physical movement and gesture to reveal the elements and images of a story to a specific, live audienc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-From members of the National Association of Storytel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8120" y="1752480"/>
            <a:ext cx="280188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igital ________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would you use Digital __________ in a classroom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s/C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ictures/mov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bo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ftware Used to Create Digital St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MA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Ipho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Imov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P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Photo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MovieMa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t’s look at some examp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23:01:09Z</dcterms:created>
  <dc:creator>BCPS</dc:creator>
  <dc:description/>
  <dc:language>en-US</dc:language>
  <cp:lastModifiedBy>BCPS</cp:lastModifiedBy>
  <dcterms:modified xsi:type="dcterms:W3CDTF">2010-10-12T23:28:30Z</dcterms:modified>
  <cp:revision>3</cp:revision>
  <dc:subject/>
  <dc:title>Digital ___________</dc:title>
</cp:coreProperties>
</file>