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369-D4DF-492D-BEB7-5DFA4BCC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16F-EF2B-4678-B8B2-25FBF9F5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1AC-D520-4573-A561-1ECF6EC0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462-9484-4F0A-8A60-4191EC02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6AA-7A41-433C-A3B4-CD0A3931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AC4-2298-4D7C-855C-2098ABC5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A13-A91E-4220-BFD3-456BEB92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185-ACFE-4FE6-AB2D-D382CECB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4B1-33EC-43E3-B45B-19ADD68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8BD-383A-4908-9B76-313B252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059-5D42-4573-A93C-691EFBD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F2F-628E-4AC8-A75F-210803C8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D8E7-0372-4920-A22A-99A3D98DD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__________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2T23:28:30Z</dcterms:modified>
  <cp:revision>3</cp:revision>
  <dc:subject/>
  <dc:title>Digital ___________</dc:title>
</cp:coreProperties>
</file>