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74A-D82D-4B5C-A8AD-8FC9C866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579-AEE6-4677-A8C1-EF89D13F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241-B6C5-453A-86F4-B1694431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F03-6939-4D26-AD8B-34190996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DC4-EE30-4908-A584-8F4B1DB6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256-0C69-4F60-9D16-9885CB46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B76-78D8-4EA2-9962-16CD3522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C7E-425E-4FB2-B0B0-C3CCE857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BA6-79F7-4850-A607-2053C41E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33A-AD95-4A73-9993-48F7E8A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DB3-DEBD-4F88-BA70-771B93B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63D-869A-4DF0-8A3C-F22A2310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887B-0DD3-4279-A148-F2D3AE1B2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__________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2T23:28:30Z</dcterms:modified>
  <cp:revision>3</cp:revision>
  <dc:subject/>
  <dc:title>Digital ___________</dc:title>
</cp:coreProperties>
</file>