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E09F-8BF0-40D5-B1FA-B5E4161B1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9316-F354-4C0E-A5FD-FD2FB19B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7D38-3A68-44A3-9AC8-F28CE1BC1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3456-4D66-404B-8E72-97F601733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9E52-CE46-491B-B1E3-B18E8F17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5217-A812-4213-AAAD-44761366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CD5F-08DA-4977-8583-19A3D1B6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CB7A-B487-4447-9B2C-C74BF4E9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9BBC-51F3-4F66-BBBB-5E822155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F2E1-F690-4AC0-B77C-6C8946AA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2286-8109-4584-B967-47864ED8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D4F1-F92F-4938-982D-7DCF14F4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2FF8-91CC-4B07-8859-AC84E8FD9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2.scholastic.com/browse/video.jsp?pID=1640149541&amp;bcpid=1640149541&amp;bclid=57826465001&amp;bctid=76958613001" TargetMode="External"/><Relationship Id="rId2" Type="http://schemas.openxmlformats.org/officeDocument/2006/relationships/hyperlink" Target="http://www2.scholastic.com/browse/video.jsp?pID=1640149541&amp;bcpid=1640149541&amp;bclid=57826465001&amp;bctid=76958613001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Typewriter"/>
              </a:rPr>
              <a:t>Digital Book Tal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orytelling is the art of using language, vocalization, and/or physical movement and gesture to reveal the elements and images of a story to a specific, live audien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-From members of the National Association of Storytel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28018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igital Book Tal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review of a book by one person.  It should be short and exciting and should have a cliff hanger.  Its purpose is to sell the book.  It is not a full summ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Trailer- very short, action packed video shown to entice the person to read the book.  It has a plot but does not give away end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would you use Digital Book Talk in a classroom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reading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reading-If you liked this book, here are some sugg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logs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-Give book talk after reading a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o invite into a center or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s/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Grabs readers at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Exposes them to different genr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Exposed to different demographics and may relate to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Can be used in classroom and media center-especially G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Help you meet standa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Helps children practice summarization and identifying elements of the stor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Some tend to be commercial like and produced by author or publisher with the intent to sell the book not to entice the person to read the bo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If children do book talks-some of them do not like to talk on cam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Book trailers want to persuade you to read the book-book talks want to excite you about boo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Some believe it to be a video recording just reading the book-not all used correct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Not many people can create a book trailer the way it should be made-low budg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ctures/mo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Used to Create Digital S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MA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pho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mov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hoto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MovieMa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t’s look at some ex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fter Ever After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Book 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Black Rabbit Summer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k 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e Arriva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k Tal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Of Mice and Men Book Tra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e Natura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k Tra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23:01:09Z</dcterms:created>
  <dc:creator>BCPS</dc:creator>
  <dc:description/>
  <dc:language>en-US</dc:language>
  <cp:lastModifiedBy>BCPS</cp:lastModifiedBy>
  <dcterms:modified xsi:type="dcterms:W3CDTF">2010-10-13T20:55:25Z</dcterms:modified>
  <cp:revision>4</cp:revision>
  <dc:subject/>
  <dc:title>Digital ___________</dc:title>
</cp:coreProperties>
</file>