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7A3-EB89-43FE-A69A-BDC8A765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6D8-C65B-41DA-BF4A-2C534F59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525-34B1-43CA-AE7A-DDD786D6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22D-DC15-420C-B662-19F04036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B08-9DFB-43C4-A686-8804D4A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0FF-DBC0-4940-AA06-1972A5D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5AC-5898-417C-936D-6D0F05CD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1D9-C0B1-453B-9FC3-4556C5F7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6B5-F9A9-4C0A-ADEA-0DF0064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A9C-AFF3-4A3D-A865-16C9386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E07-2E1F-4141-81C0-B8E189FB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81E-65AE-4807-8A5F-764C06E4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07B3-15BF-4933-A734-181CB1F1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0:55:25Z</dcterms:modified>
  <cp:revision>4</cp:revision>
  <dc:subject/>
  <dc:title>Digital ___________</dc:title>
</cp:coreProperties>
</file>