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D5A-4197-4CBC-89C7-5537F7E0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2AF-01B1-4511-ADDC-F9176AB0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BDF-54B2-4BD4-ADF7-8E32AEF4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BF8-8858-49AD-99DD-F1DF8287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FB7-A210-4D45-8720-46844E8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7ED-E3D0-4D04-AE51-F47424AA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CC6-DBBC-490E-893C-E286F3C2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3A8-6689-49F9-AA93-BE4A245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845-057E-4C06-9073-4588E061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358-1202-4939-ABDF-3AC54F2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F3D-4F49-454A-A2A3-0C221F7C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C38-4F3D-4D65-B8FC-998E3CE5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377A-13F4-4605-AE84-E72565B2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0:55:25Z</dcterms:modified>
  <cp:revision>4</cp:revision>
  <dc:subject/>
  <dc:title>Digital ___________</dc:title>
</cp:coreProperties>
</file>