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D69-239A-4D44-906E-9EA9A9F0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954-B013-4920-ACFA-E3C8B94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265-7FCD-43D4-A6BC-11EC02CD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69B-A9A2-49E6-8641-D8A1E12F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0EE-992B-4A14-91AC-4CFF378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8B6-4C53-4BCF-83E4-D7FEECB5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4CB-C84A-4345-8B80-49E26558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40F-F097-4A98-9FA0-BC8D1F4A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121-6898-414B-9BF7-C44873FC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EA3-BCB3-4CEC-9AED-113154D3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FC6-8D38-469A-AC3B-279D19D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B4A-8271-4D75-A320-3BB32D1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8D04-2CD7-452D-BED8-001CA7DA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0:55:25Z</dcterms:modified>
  <cp:revision>4</cp:revision>
  <dc:subject/>
  <dc:title>Digital ___________</dc:title>
</cp:coreProperties>
</file>