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8.jpeg" ContentType="image/jpe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jpeg" ContentType="image/jpeg"/>
  <Override PartName="/ppt/media/image2.wmf" ContentType="image/x-wmf"/>
  <Override PartName="/ppt/media/image25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6.gif" ContentType="image/gi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666-21E6-4EF0-97B8-ACF10AAB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426-139B-404B-92B5-662ABF2D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E7A-CA8B-49BB-A04F-4406D07F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561-F2FE-42A5-B335-BB795CE4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280A-8893-4A95-AA81-8FEF8DCE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45C8-550E-4AE2-9BDE-85CE832B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FF21-23B1-460B-9BB0-E74B47BF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ECF-7687-43B3-8FED-5E0FA4EA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2A1-F7F9-428A-B4C2-1281D940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915F-A670-4F06-B595-85F3F6FF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F7F8-6F9D-4176-87F8-108A2C16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267-CDFA-4FC9-BC16-2819C56A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F5B1-9D57-4247-BC29-6E10E62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9F7D-5DA1-4159-9731-77F3BF4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35BD-9B9F-4D03-B6FB-E57E1A1B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757A-D984-4303-BC66-261C3F96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7FBF-BF81-4DF7-9BE6-AAC3FFBD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E16-4B0B-4D16-802C-D1E58EB5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CE8-2081-45E8-BF37-ED15C79B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08A-EF76-42EC-9505-F7145C95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532-DCBC-4E6D-A328-AEB57BF7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A9A-1D08-4036-90FF-587F872E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885-E682-4551-AC80-AC78753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24C-918D-40D5-95A7-B59ED817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9339-287C-4D2F-B278-82A907B6AB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CB84-DEDA-4D49-899E-4D69C7D5EDD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Spee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, Adjectives,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219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1295280" y="609480"/>
            <a:ext cx="64008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correct nouns in each sentence. They refer to a person, place or 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ok 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ay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layed with 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l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v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ll asleep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8380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7772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610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 sentence of your own now. You must use at least 2 nouns in your sent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jectives are words that are used to describe something or someon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ectives help give more information about somet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/s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954360" cy="1471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876320" cy="162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104840" cy="127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2438280"/>
            <a:ext cx="1828800" cy="588960"/>
          </a:xfrm>
          <a:prstGeom prst="rect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adjective in the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44560" y="281016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803600" y="2810160"/>
            <a:ext cx="971280" cy="667800"/>
          </a:xfrm>
          <a:custGeom>
            <a:avLst/>
            <a:gdLst>
              <a:gd name="textAreaLeft" fmla="*/ 43200 w 971280"/>
              <a:gd name="textAreaRight" fmla="*/ 928080 w 971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411" h="21600">
                <a:moveTo>
                  <a:pt x="0" y="0"/>
                </a:moveTo>
                <a:lnTo>
                  <a:pt x="31411" y="0"/>
                </a:lnTo>
                <a:lnTo>
                  <a:pt x="31411" y="21600"/>
                </a:lnTo>
                <a:lnTo>
                  <a:pt x="0" y="21600"/>
                </a:lnTo>
                <a:close/>
              </a:path>
              <a:path fill="lightenLess" w="31411" h="21600">
                <a:moveTo>
                  <a:pt x="0" y="0"/>
                </a:moveTo>
                <a:lnTo>
                  <a:pt x="31411" y="0"/>
                </a:lnTo>
                <a:lnTo>
                  <a:pt x="30011" y="1400"/>
                </a:lnTo>
                <a:lnTo>
                  <a:pt x="1400" y="1400"/>
                </a:lnTo>
                <a:close/>
              </a:path>
              <a:path fill="darken" w="31411" h="21600">
                <a:moveTo>
                  <a:pt x="31411" y="0"/>
                </a:moveTo>
                <a:lnTo>
                  <a:pt x="31411" y="21600"/>
                </a:lnTo>
                <a:lnTo>
                  <a:pt x="30011" y="20200"/>
                </a:lnTo>
                <a:lnTo>
                  <a:pt x="30011" y="1400"/>
                </a:lnTo>
                <a:close/>
              </a:path>
              <a:path fill="darkenLess" w="31411" h="21600">
                <a:moveTo>
                  <a:pt x="31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1" y="20200"/>
                </a:lnTo>
                <a:close/>
              </a:path>
              <a:path fill="lighten" w="31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2867400" y="2810160"/>
            <a:ext cx="1215000" cy="667800"/>
          </a:xfrm>
          <a:custGeom>
            <a:avLst/>
            <a:gdLst>
              <a:gd name="textAreaLeft" fmla="*/ 43200 w 1215000"/>
              <a:gd name="textAreaRight" fmla="*/ 1171800 w 12150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9290" h="21600">
                <a:moveTo>
                  <a:pt x="0" y="0"/>
                </a:moveTo>
                <a:lnTo>
                  <a:pt x="39290" y="0"/>
                </a:lnTo>
                <a:lnTo>
                  <a:pt x="39290" y="21600"/>
                </a:lnTo>
                <a:lnTo>
                  <a:pt x="0" y="21600"/>
                </a:lnTo>
                <a:close/>
              </a:path>
              <a:path fill="lightenLess" w="39290" h="21600">
                <a:moveTo>
                  <a:pt x="0" y="0"/>
                </a:moveTo>
                <a:lnTo>
                  <a:pt x="39290" y="0"/>
                </a:lnTo>
                <a:lnTo>
                  <a:pt x="37890" y="1400"/>
                </a:lnTo>
                <a:lnTo>
                  <a:pt x="1400" y="1400"/>
                </a:lnTo>
                <a:close/>
              </a:path>
              <a:path fill="darken" w="39290" h="21600">
                <a:moveTo>
                  <a:pt x="39290" y="0"/>
                </a:moveTo>
                <a:lnTo>
                  <a:pt x="39290" y="21600"/>
                </a:lnTo>
                <a:lnTo>
                  <a:pt x="37890" y="20200"/>
                </a:lnTo>
                <a:lnTo>
                  <a:pt x="37890" y="1400"/>
                </a:lnTo>
                <a:close/>
              </a:path>
              <a:path fill="darkenLess" w="39290" h="21600">
                <a:moveTo>
                  <a:pt x="3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90" y="20200"/>
                </a:lnTo>
                <a:close/>
              </a:path>
              <a:path fill="lighten" w="3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4084920" y="280152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4804560" y="281016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5726880" y="2810160"/>
            <a:ext cx="852480" cy="667800"/>
          </a:xfrm>
          <a:custGeom>
            <a:avLst/>
            <a:gdLst>
              <a:gd name="textAreaLeft" fmla="*/ 43200 w 852480"/>
              <a:gd name="textAreaRight" fmla="*/ 809280 w 852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7570" h="21600">
                <a:moveTo>
                  <a:pt x="0" y="0"/>
                </a:moveTo>
                <a:lnTo>
                  <a:pt x="27570" y="0"/>
                </a:lnTo>
                <a:lnTo>
                  <a:pt x="27570" y="21600"/>
                </a:lnTo>
                <a:lnTo>
                  <a:pt x="0" y="21600"/>
                </a:lnTo>
                <a:close/>
              </a:path>
              <a:path fill="lightenLess" w="27570" h="21600">
                <a:moveTo>
                  <a:pt x="0" y="0"/>
                </a:moveTo>
                <a:lnTo>
                  <a:pt x="27570" y="0"/>
                </a:lnTo>
                <a:lnTo>
                  <a:pt x="26170" y="1400"/>
                </a:lnTo>
                <a:lnTo>
                  <a:pt x="1400" y="1400"/>
                </a:lnTo>
                <a:close/>
              </a:path>
              <a:path fill="darken" w="27570" h="21600">
                <a:moveTo>
                  <a:pt x="27570" y="0"/>
                </a:moveTo>
                <a:lnTo>
                  <a:pt x="27570" y="21600"/>
                </a:lnTo>
                <a:lnTo>
                  <a:pt x="26170" y="20200"/>
                </a:lnTo>
                <a:lnTo>
                  <a:pt x="26170" y="1400"/>
                </a:lnTo>
                <a:close/>
              </a:path>
              <a:path fill="darkenLess" w="27570" h="21600">
                <a:moveTo>
                  <a:pt x="27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0" y="20200"/>
                </a:lnTo>
                <a:close/>
              </a:path>
              <a:path fill="lighten" w="27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6487920" y="2810160"/>
            <a:ext cx="1945080" cy="667800"/>
          </a:xfrm>
          <a:custGeom>
            <a:avLst/>
            <a:gdLst>
              <a:gd name="textAreaLeft" fmla="*/ 43200 w 1945080"/>
              <a:gd name="textAreaRight" fmla="*/ 1901880 w 19450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2891" h="21600">
                <a:moveTo>
                  <a:pt x="0" y="0"/>
                </a:moveTo>
                <a:lnTo>
                  <a:pt x="62891" y="0"/>
                </a:lnTo>
                <a:lnTo>
                  <a:pt x="62891" y="21600"/>
                </a:lnTo>
                <a:lnTo>
                  <a:pt x="0" y="21600"/>
                </a:lnTo>
                <a:close/>
              </a:path>
              <a:path fill="lightenLess" w="62891" h="21600">
                <a:moveTo>
                  <a:pt x="0" y="0"/>
                </a:moveTo>
                <a:lnTo>
                  <a:pt x="62891" y="0"/>
                </a:lnTo>
                <a:lnTo>
                  <a:pt x="61491" y="1400"/>
                </a:lnTo>
                <a:lnTo>
                  <a:pt x="1400" y="1400"/>
                </a:lnTo>
                <a:close/>
              </a:path>
              <a:path fill="darken" w="62891" h="21600">
                <a:moveTo>
                  <a:pt x="62891" y="0"/>
                </a:moveTo>
                <a:lnTo>
                  <a:pt x="62891" y="21600"/>
                </a:lnTo>
                <a:lnTo>
                  <a:pt x="61491" y="20200"/>
                </a:lnTo>
                <a:lnTo>
                  <a:pt x="61491" y="1400"/>
                </a:lnTo>
                <a:close/>
              </a:path>
              <a:path fill="darkenLess" w="62891" h="21600">
                <a:moveTo>
                  <a:pt x="62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91" y="20200"/>
                </a:lnTo>
                <a:close/>
              </a:path>
              <a:path fill="lighten" w="62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666880" y="4038480"/>
            <a:ext cx="3505320" cy="25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not an adjective in the sentence. Click on the word that describes the build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343400" y="4495680"/>
            <a:ext cx="4800600" cy="2362320"/>
          </a:xfrm>
          <a:custGeom>
            <a:avLst/>
            <a:gdLst>
              <a:gd name="textAreaLeft" fmla="*/ 153000 w 4800600"/>
              <a:gd name="textAreaRight" fmla="*/ 4647600 w 48006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3891" h="21600">
                <a:moveTo>
                  <a:pt x="0" y="0"/>
                </a:moveTo>
                <a:lnTo>
                  <a:pt x="43891" y="0"/>
                </a:lnTo>
                <a:lnTo>
                  <a:pt x="43891" y="21600"/>
                </a:lnTo>
                <a:lnTo>
                  <a:pt x="0" y="21600"/>
                </a:lnTo>
                <a:close/>
              </a:path>
              <a:path fill="lightenLess" w="43891" h="21600">
                <a:moveTo>
                  <a:pt x="0" y="0"/>
                </a:moveTo>
                <a:lnTo>
                  <a:pt x="43891" y="0"/>
                </a:lnTo>
                <a:lnTo>
                  <a:pt x="42491" y="1400"/>
                </a:lnTo>
                <a:lnTo>
                  <a:pt x="1400" y="1400"/>
                </a:lnTo>
                <a:close/>
              </a:path>
              <a:path fill="darken" w="43891" h="21600">
                <a:moveTo>
                  <a:pt x="43891" y="0"/>
                </a:moveTo>
                <a:lnTo>
                  <a:pt x="43891" y="21600"/>
                </a:lnTo>
                <a:lnTo>
                  <a:pt x="42491" y="20200"/>
                </a:lnTo>
                <a:lnTo>
                  <a:pt x="42491" y="1400"/>
                </a:lnTo>
                <a:close/>
              </a:path>
              <a:path fill="darkenLess" w="43891" h="21600">
                <a:moveTo>
                  <a:pt x="43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91" y="20200"/>
                </a:lnTo>
                <a:close/>
              </a:path>
              <a:path fill="lighten" w="43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is the word to describe the building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27560" cy="22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an x under each adjective in the following sentenc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hite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ld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big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correct adjectives that you should have chosen are underline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’s your turn. Make a list of adjectives you could use to describe a cat. Type your answers below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8991720" cy="6858000"/>
          </a:xfrm>
          <a:custGeom>
            <a:avLst/>
            <a:gdLst>
              <a:gd name="textAreaLeft" fmla="*/ 444240 w 8991720"/>
              <a:gd name="textAreaRight" fmla="*/ 8547480 w 8991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320" h="21600">
                <a:moveTo>
                  <a:pt x="0" y="0"/>
                </a:moveTo>
                <a:lnTo>
                  <a:pt x="28320" y="0"/>
                </a:lnTo>
                <a:lnTo>
                  <a:pt x="28320" y="21600"/>
                </a:lnTo>
                <a:lnTo>
                  <a:pt x="0" y="21600"/>
                </a:lnTo>
                <a:close/>
              </a:path>
              <a:path fill="lightenLess" w="28320" h="21600">
                <a:moveTo>
                  <a:pt x="0" y="0"/>
                </a:moveTo>
                <a:lnTo>
                  <a:pt x="28320" y="0"/>
                </a:lnTo>
                <a:lnTo>
                  <a:pt x="26920" y="1400"/>
                </a:lnTo>
                <a:lnTo>
                  <a:pt x="1400" y="1400"/>
                </a:lnTo>
                <a:close/>
              </a:path>
              <a:path fill="darken" w="28320" h="21600">
                <a:moveTo>
                  <a:pt x="28320" y="0"/>
                </a:moveTo>
                <a:lnTo>
                  <a:pt x="28320" y="21600"/>
                </a:lnTo>
                <a:lnTo>
                  <a:pt x="26920" y="20200"/>
                </a:lnTo>
                <a:lnTo>
                  <a:pt x="26920" y="1400"/>
                </a:lnTo>
                <a:close/>
              </a:path>
              <a:path fill="darkenLess" w="28320" h="21600">
                <a:moveTo>
                  <a:pt x="2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0" y="20200"/>
                </a:lnTo>
                <a:close/>
              </a:path>
              <a:path fill="lighten" w="2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day we will review nouns and identify adjectives and verbs in sentenc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Verb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bs are words used to describe an action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on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1609560" cy="1752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96840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943600" y="1066680"/>
            <a:ext cx="1755720" cy="1752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647720" cy="1955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9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verb in this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666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1073160" y="265788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2211480" y="2657880"/>
            <a:ext cx="1039680" cy="667800"/>
          </a:xfrm>
          <a:custGeom>
            <a:avLst/>
            <a:gdLst>
              <a:gd name="textAreaLeft" fmla="*/ 43200 w 1039680"/>
              <a:gd name="textAreaRight" fmla="*/ 996480 w 10396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622" h="21600">
                <a:moveTo>
                  <a:pt x="0" y="0"/>
                </a:moveTo>
                <a:lnTo>
                  <a:pt x="33622" y="0"/>
                </a:lnTo>
                <a:lnTo>
                  <a:pt x="33622" y="21600"/>
                </a:lnTo>
                <a:lnTo>
                  <a:pt x="0" y="21600"/>
                </a:lnTo>
                <a:close/>
              </a:path>
              <a:path fill="lightenLess" w="33622" h="21600">
                <a:moveTo>
                  <a:pt x="0" y="0"/>
                </a:moveTo>
                <a:lnTo>
                  <a:pt x="33622" y="0"/>
                </a:lnTo>
                <a:lnTo>
                  <a:pt x="32222" y="1400"/>
                </a:lnTo>
                <a:lnTo>
                  <a:pt x="1400" y="1400"/>
                </a:lnTo>
                <a:close/>
              </a:path>
              <a:path fill="darken" w="33622" h="21600">
                <a:moveTo>
                  <a:pt x="33622" y="0"/>
                </a:moveTo>
                <a:lnTo>
                  <a:pt x="33622" y="21600"/>
                </a:lnTo>
                <a:lnTo>
                  <a:pt x="32222" y="20200"/>
                </a:lnTo>
                <a:lnTo>
                  <a:pt x="32222" y="1400"/>
                </a:lnTo>
                <a:close/>
              </a:path>
              <a:path fill="darkenLess" w="33622" h="21600">
                <a:moveTo>
                  <a:pt x="3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2" y="20200"/>
                </a:lnTo>
                <a:close/>
              </a:path>
              <a:path fill="lighten" w="3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89480" y="264960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9480" y="265788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4360" y="2657880"/>
            <a:ext cx="1102320" cy="667800"/>
          </a:xfrm>
          <a:custGeom>
            <a:avLst/>
            <a:gdLst>
              <a:gd name="textAreaLeft" fmla="*/ 43200 w 1102320"/>
              <a:gd name="textAreaRight" fmla="*/ 1059120 w 11023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00" y="2657880"/>
            <a:ext cx="1043640" cy="667800"/>
          </a:xfrm>
          <a:custGeom>
            <a:avLst/>
            <a:gdLst>
              <a:gd name="textAreaLeft" fmla="*/ 43200 w 1043640"/>
              <a:gd name="textAreaRight" fmla="*/ 1000440 w 10436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750" h="21600">
                <a:moveTo>
                  <a:pt x="0" y="0"/>
                </a:moveTo>
                <a:lnTo>
                  <a:pt x="33750" y="0"/>
                </a:lnTo>
                <a:lnTo>
                  <a:pt x="33750" y="21600"/>
                </a:lnTo>
                <a:lnTo>
                  <a:pt x="0" y="21600"/>
                </a:lnTo>
                <a:close/>
              </a:path>
              <a:path fill="lightenLess" w="33750" h="21600">
                <a:moveTo>
                  <a:pt x="0" y="0"/>
                </a:moveTo>
                <a:lnTo>
                  <a:pt x="33750" y="0"/>
                </a:lnTo>
                <a:lnTo>
                  <a:pt x="32350" y="1400"/>
                </a:lnTo>
                <a:lnTo>
                  <a:pt x="1400" y="1400"/>
                </a:lnTo>
                <a:close/>
              </a:path>
              <a:path fill="darken" w="33750" h="21600">
                <a:moveTo>
                  <a:pt x="33750" y="0"/>
                </a:moveTo>
                <a:lnTo>
                  <a:pt x="33750" y="21600"/>
                </a:lnTo>
                <a:lnTo>
                  <a:pt x="32350" y="20200"/>
                </a:lnTo>
                <a:lnTo>
                  <a:pt x="32350" y="1400"/>
                </a:lnTo>
                <a:close/>
              </a:path>
              <a:path fill="darkenLess" w="33750" h="21600">
                <a:moveTo>
                  <a:pt x="3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0" y="20200"/>
                </a:lnTo>
                <a:close/>
              </a:path>
              <a:path fill="lighten" w="3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verb. Remember a verb is an action word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flies is the verb in this sentence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3606840"/>
            <a:ext cx="2070000" cy="1835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an x under the verb in each sente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caught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jumped into the w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sat quietly on the r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se are the correct verbs that you should have put an x under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u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the wat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etly on the ru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ll in the following sentences with a verb (action word)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              down the hi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Kendell          after the ball to get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Ryan            the ball to Spenc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on a category to begin.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Nouns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_x000b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Nou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are described as a person, place, or thing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52280"/>
          <a:ext cx="7696080" cy="60195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an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wthorne E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b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ate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99864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81080" y="3276720"/>
            <a:ext cx="93996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648320"/>
            <a:ext cx="833400" cy="137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82560" cy="8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962520" y="2209680"/>
            <a:ext cx="1752480" cy="12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495680" y="5240160"/>
            <a:ext cx="1217880" cy="8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38480" y="3886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00800" y="762120"/>
            <a:ext cx="13701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6705720" y="2362320"/>
            <a:ext cx="1285920" cy="117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6629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53080" y="5029200"/>
            <a:ext cx="1543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noun in this sentence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095880" y="31240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81080" y="31240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3429000" y="31240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724280" y="3124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27620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 is a noun in the sentence it refers to a th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3565440"/>
            <a:ext cx="2374920" cy="21052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noun. Remember a noun is a person, place or th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8686800" cy="6858000"/>
          </a:xfrm>
          <a:custGeom>
            <a:avLst/>
            <a:gdLst>
              <a:gd name="textAreaLeft" fmla="*/ 444240 w 8686800"/>
              <a:gd name="textAreaRight" fmla="*/ 8242560 w 8686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121140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685800"/>
            <a:ext cx="6400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ouns in these sentences. Put an x under each word that is a no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is took his dog to the 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yla played with her do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vid fell asleep in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971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971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54:28Z</dcterms:created>
  <dc:creator>owner</dc:creator>
  <dc:description/>
  <dc:language>en-US</dc:language>
  <cp:lastModifiedBy>Beth Ann</cp:lastModifiedBy>
  <dcterms:modified xsi:type="dcterms:W3CDTF">2009-04-13T00:39:26Z</dcterms:modified>
  <cp:revision>38</cp:revision>
  <dc:subject/>
  <dc:title>Parts of Speech:  Nouns, Adjectives, Adverbs</dc:title>
</cp:coreProperties>
</file>