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8.jpeg" ContentType="image/jpe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jpeg" ContentType="image/jpeg"/>
  <Override PartName="/ppt/media/image2.wmf" ContentType="image/x-wmf"/>
  <Override PartName="/ppt/media/image25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6.gif" ContentType="image/gi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FBB-1BF1-441D-9F95-B869491D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6AE-D58E-4811-A97E-86B12E16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854-52C0-44F1-98B4-FBE0C1D9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902-6D8D-43CD-9818-4033E805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5982-B135-4A76-820B-1CBB04F8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E00C-8C20-447D-B875-7706E28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4752-1DDB-4F4F-9738-31FB7A70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75DA-1E44-446C-AEC6-18F016AD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FD59-D3D4-4B06-A833-188876E6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C1D6-8B19-4889-A70E-65B1F547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38D2-B2E0-4C70-98AB-CCB790B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0A3-0AE0-405E-A120-8C7CEBEA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F21E-7F8C-490B-AB72-0413AD4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7EE-70B8-43E6-94E8-B007B0B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2219-D09D-4902-913C-50CDEAFC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4C9E-9114-4F8C-97EB-D0B018F8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1BA8-CF7D-415C-A764-E575AB2B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CDB-52DA-4D6F-B39E-8F01C281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9E1-910D-4B70-96A9-CC28EDF3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1E3-373A-4EA0-9B5A-9982DECB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A3E-44F9-4CF8-A11D-FAAC2B80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5FA-5662-4C7F-A9D7-6559B04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8DD-7ECE-43A0-AEE1-34503FF0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DDF-842E-47A2-BF88-CD426CF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3E38-9655-4F31-809E-55C5E02CC2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81F0-9EE1-42A6-AB62-0884AD76F8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Spee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, Adjectives,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219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1295280" y="609480"/>
            <a:ext cx="64008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correct nouns in each sentence. They refer to a person, place or 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ok 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ay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layed with 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l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v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ll asleep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8380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7772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610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 sentence of your own now. You must use at least 2 nouns in your sent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jectives are words that are used to describe something or someon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ectives help give more information about somet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/s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954360" cy="1471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876320" cy="162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104840" cy="127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2438280"/>
            <a:ext cx="1828800" cy="588960"/>
          </a:xfrm>
          <a:prstGeom prst="rect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adjective in the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44560" y="281016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803600" y="2810160"/>
            <a:ext cx="971280" cy="667800"/>
          </a:xfrm>
          <a:custGeom>
            <a:avLst/>
            <a:gdLst>
              <a:gd name="textAreaLeft" fmla="*/ 43200 w 971280"/>
              <a:gd name="textAreaRight" fmla="*/ 928080 w 971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411" h="21600">
                <a:moveTo>
                  <a:pt x="0" y="0"/>
                </a:moveTo>
                <a:lnTo>
                  <a:pt x="31411" y="0"/>
                </a:lnTo>
                <a:lnTo>
                  <a:pt x="31411" y="21600"/>
                </a:lnTo>
                <a:lnTo>
                  <a:pt x="0" y="21600"/>
                </a:lnTo>
                <a:close/>
              </a:path>
              <a:path fill="lightenLess" w="31411" h="21600">
                <a:moveTo>
                  <a:pt x="0" y="0"/>
                </a:moveTo>
                <a:lnTo>
                  <a:pt x="31411" y="0"/>
                </a:lnTo>
                <a:lnTo>
                  <a:pt x="30011" y="1400"/>
                </a:lnTo>
                <a:lnTo>
                  <a:pt x="1400" y="1400"/>
                </a:lnTo>
                <a:close/>
              </a:path>
              <a:path fill="darken" w="31411" h="21600">
                <a:moveTo>
                  <a:pt x="31411" y="0"/>
                </a:moveTo>
                <a:lnTo>
                  <a:pt x="31411" y="21600"/>
                </a:lnTo>
                <a:lnTo>
                  <a:pt x="30011" y="20200"/>
                </a:lnTo>
                <a:lnTo>
                  <a:pt x="30011" y="1400"/>
                </a:lnTo>
                <a:close/>
              </a:path>
              <a:path fill="darkenLess" w="31411" h="21600">
                <a:moveTo>
                  <a:pt x="31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1" y="20200"/>
                </a:lnTo>
                <a:close/>
              </a:path>
              <a:path fill="lighten" w="31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2867400" y="2810160"/>
            <a:ext cx="1215000" cy="667800"/>
          </a:xfrm>
          <a:custGeom>
            <a:avLst/>
            <a:gdLst>
              <a:gd name="textAreaLeft" fmla="*/ 43200 w 1215000"/>
              <a:gd name="textAreaRight" fmla="*/ 1171800 w 12150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9290" h="21600">
                <a:moveTo>
                  <a:pt x="0" y="0"/>
                </a:moveTo>
                <a:lnTo>
                  <a:pt x="39290" y="0"/>
                </a:lnTo>
                <a:lnTo>
                  <a:pt x="39290" y="21600"/>
                </a:lnTo>
                <a:lnTo>
                  <a:pt x="0" y="21600"/>
                </a:lnTo>
                <a:close/>
              </a:path>
              <a:path fill="lightenLess" w="39290" h="21600">
                <a:moveTo>
                  <a:pt x="0" y="0"/>
                </a:moveTo>
                <a:lnTo>
                  <a:pt x="39290" y="0"/>
                </a:lnTo>
                <a:lnTo>
                  <a:pt x="37890" y="1400"/>
                </a:lnTo>
                <a:lnTo>
                  <a:pt x="1400" y="1400"/>
                </a:lnTo>
                <a:close/>
              </a:path>
              <a:path fill="darken" w="39290" h="21600">
                <a:moveTo>
                  <a:pt x="39290" y="0"/>
                </a:moveTo>
                <a:lnTo>
                  <a:pt x="39290" y="21600"/>
                </a:lnTo>
                <a:lnTo>
                  <a:pt x="37890" y="20200"/>
                </a:lnTo>
                <a:lnTo>
                  <a:pt x="37890" y="1400"/>
                </a:lnTo>
                <a:close/>
              </a:path>
              <a:path fill="darkenLess" w="39290" h="21600">
                <a:moveTo>
                  <a:pt x="3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90" y="20200"/>
                </a:lnTo>
                <a:close/>
              </a:path>
              <a:path fill="lighten" w="3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4084920" y="280152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4804560" y="281016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5726880" y="2810160"/>
            <a:ext cx="852480" cy="667800"/>
          </a:xfrm>
          <a:custGeom>
            <a:avLst/>
            <a:gdLst>
              <a:gd name="textAreaLeft" fmla="*/ 43200 w 852480"/>
              <a:gd name="textAreaRight" fmla="*/ 809280 w 852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7570" h="21600">
                <a:moveTo>
                  <a:pt x="0" y="0"/>
                </a:moveTo>
                <a:lnTo>
                  <a:pt x="27570" y="0"/>
                </a:lnTo>
                <a:lnTo>
                  <a:pt x="27570" y="21600"/>
                </a:lnTo>
                <a:lnTo>
                  <a:pt x="0" y="21600"/>
                </a:lnTo>
                <a:close/>
              </a:path>
              <a:path fill="lightenLess" w="27570" h="21600">
                <a:moveTo>
                  <a:pt x="0" y="0"/>
                </a:moveTo>
                <a:lnTo>
                  <a:pt x="27570" y="0"/>
                </a:lnTo>
                <a:lnTo>
                  <a:pt x="26170" y="1400"/>
                </a:lnTo>
                <a:lnTo>
                  <a:pt x="1400" y="1400"/>
                </a:lnTo>
                <a:close/>
              </a:path>
              <a:path fill="darken" w="27570" h="21600">
                <a:moveTo>
                  <a:pt x="27570" y="0"/>
                </a:moveTo>
                <a:lnTo>
                  <a:pt x="27570" y="21600"/>
                </a:lnTo>
                <a:lnTo>
                  <a:pt x="26170" y="20200"/>
                </a:lnTo>
                <a:lnTo>
                  <a:pt x="26170" y="1400"/>
                </a:lnTo>
                <a:close/>
              </a:path>
              <a:path fill="darkenLess" w="27570" h="21600">
                <a:moveTo>
                  <a:pt x="27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0" y="20200"/>
                </a:lnTo>
                <a:close/>
              </a:path>
              <a:path fill="lighten" w="27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6487920" y="2810160"/>
            <a:ext cx="1945080" cy="667800"/>
          </a:xfrm>
          <a:custGeom>
            <a:avLst/>
            <a:gdLst>
              <a:gd name="textAreaLeft" fmla="*/ 43200 w 1945080"/>
              <a:gd name="textAreaRight" fmla="*/ 1901880 w 19450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2891" h="21600">
                <a:moveTo>
                  <a:pt x="0" y="0"/>
                </a:moveTo>
                <a:lnTo>
                  <a:pt x="62891" y="0"/>
                </a:lnTo>
                <a:lnTo>
                  <a:pt x="62891" y="21600"/>
                </a:lnTo>
                <a:lnTo>
                  <a:pt x="0" y="21600"/>
                </a:lnTo>
                <a:close/>
              </a:path>
              <a:path fill="lightenLess" w="62891" h="21600">
                <a:moveTo>
                  <a:pt x="0" y="0"/>
                </a:moveTo>
                <a:lnTo>
                  <a:pt x="62891" y="0"/>
                </a:lnTo>
                <a:lnTo>
                  <a:pt x="61491" y="1400"/>
                </a:lnTo>
                <a:lnTo>
                  <a:pt x="1400" y="1400"/>
                </a:lnTo>
                <a:close/>
              </a:path>
              <a:path fill="darken" w="62891" h="21600">
                <a:moveTo>
                  <a:pt x="62891" y="0"/>
                </a:moveTo>
                <a:lnTo>
                  <a:pt x="62891" y="21600"/>
                </a:lnTo>
                <a:lnTo>
                  <a:pt x="61491" y="20200"/>
                </a:lnTo>
                <a:lnTo>
                  <a:pt x="61491" y="1400"/>
                </a:lnTo>
                <a:close/>
              </a:path>
              <a:path fill="darkenLess" w="62891" h="21600">
                <a:moveTo>
                  <a:pt x="62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91" y="20200"/>
                </a:lnTo>
                <a:close/>
              </a:path>
              <a:path fill="lighten" w="62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666880" y="4038480"/>
            <a:ext cx="3505320" cy="25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not an adjective in the sentence. Click on the word that describes the build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343400" y="4495680"/>
            <a:ext cx="4800600" cy="2362320"/>
          </a:xfrm>
          <a:custGeom>
            <a:avLst/>
            <a:gdLst>
              <a:gd name="textAreaLeft" fmla="*/ 153000 w 4800600"/>
              <a:gd name="textAreaRight" fmla="*/ 4647600 w 48006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3891" h="21600">
                <a:moveTo>
                  <a:pt x="0" y="0"/>
                </a:moveTo>
                <a:lnTo>
                  <a:pt x="43891" y="0"/>
                </a:lnTo>
                <a:lnTo>
                  <a:pt x="43891" y="21600"/>
                </a:lnTo>
                <a:lnTo>
                  <a:pt x="0" y="21600"/>
                </a:lnTo>
                <a:close/>
              </a:path>
              <a:path fill="lightenLess" w="43891" h="21600">
                <a:moveTo>
                  <a:pt x="0" y="0"/>
                </a:moveTo>
                <a:lnTo>
                  <a:pt x="43891" y="0"/>
                </a:lnTo>
                <a:lnTo>
                  <a:pt x="42491" y="1400"/>
                </a:lnTo>
                <a:lnTo>
                  <a:pt x="1400" y="1400"/>
                </a:lnTo>
                <a:close/>
              </a:path>
              <a:path fill="darken" w="43891" h="21600">
                <a:moveTo>
                  <a:pt x="43891" y="0"/>
                </a:moveTo>
                <a:lnTo>
                  <a:pt x="43891" y="21600"/>
                </a:lnTo>
                <a:lnTo>
                  <a:pt x="42491" y="20200"/>
                </a:lnTo>
                <a:lnTo>
                  <a:pt x="42491" y="1400"/>
                </a:lnTo>
                <a:close/>
              </a:path>
              <a:path fill="darkenLess" w="43891" h="21600">
                <a:moveTo>
                  <a:pt x="43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91" y="20200"/>
                </a:lnTo>
                <a:close/>
              </a:path>
              <a:path fill="lighten" w="43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is the word to describe the building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27560" cy="22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an x under each adjective in the following sentenc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hite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ld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big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correct adjectives that you should have chosen are underline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’s your turn. Make a list of adjectives you could use to describe a cat. Type your answers below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8991720" cy="6858000"/>
          </a:xfrm>
          <a:custGeom>
            <a:avLst/>
            <a:gdLst>
              <a:gd name="textAreaLeft" fmla="*/ 444240 w 8991720"/>
              <a:gd name="textAreaRight" fmla="*/ 8547480 w 8991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320" h="21600">
                <a:moveTo>
                  <a:pt x="0" y="0"/>
                </a:moveTo>
                <a:lnTo>
                  <a:pt x="28320" y="0"/>
                </a:lnTo>
                <a:lnTo>
                  <a:pt x="28320" y="21600"/>
                </a:lnTo>
                <a:lnTo>
                  <a:pt x="0" y="21600"/>
                </a:lnTo>
                <a:close/>
              </a:path>
              <a:path fill="lightenLess" w="28320" h="21600">
                <a:moveTo>
                  <a:pt x="0" y="0"/>
                </a:moveTo>
                <a:lnTo>
                  <a:pt x="28320" y="0"/>
                </a:lnTo>
                <a:lnTo>
                  <a:pt x="26920" y="1400"/>
                </a:lnTo>
                <a:lnTo>
                  <a:pt x="1400" y="1400"/>
                </a:lnTo>
                <a:close/>
              </a:path>
              <a:path fill="darken" w="28320" h="21600">
                <a:moveTo>
                  <a:pt x="28320" y="0"/>
                </a:moveTo>
                <a:lnTo>
                  <a:pt x="28320" y="21600"/>
                </a:lnTo>
                <a:lnTo>
                  <a:pt x="26920" y="20200"/>
                </a:lnTo>
                <a:lnTo>
                  <a:pt x="26920" y="1400"/>
                </a:lnTo>
                <a:close/>
              </a:path>
              <a:path fill="darkenLess" w="28320" h="21600">
                <a:moveTo>
                  <a:pt x="2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0" y="20200"/>
                </a:lnTo>
                <a:close/>
              </a:path>
              <a:path fill="lighten" w="2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day we will review nouns and identify adjectives and verbs in sentenc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Verb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bs are words used to describe an action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on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1609560" cy="1752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96840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943600" y="1066680"/>
            <a:ext cx="1755720" cy="1752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647720" cy="1955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9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verb in this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666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1073160" y="265788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2211480" y="2657880"/>
            <a:ext cx="1039680" cy="667800"/>
          </a:xfrm>
          <a:custGeom>
            <a:avLst/>
            <a:gdLst>
              <a:gd name="textAreaLeft" fmla="*/ 43200 w 1039680"/>
              <a:gd name="textAreaRight" fmla="*/ 996480 w 10396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622" h="21600">
                <a:moveTo>
                  <a:pt x="0" y="0"/>
                </a:moveTo>
                <a:lnTo>
                  <a:pt x="33622" y="0"/>
                </a:lnTo>
                <a:lnTo>
                  <a:pt x="33622" y="21600"/>
                </a:lnTo>
                <a:lnTo>
                  <a:pt x="0" y="21600"/>
                </a:lnTo>
                <a:close/>
              </a:path>
              <a:path fill="lightenLess" w="33622" h="21600">
                <a:moveTo>
                  <a:pt x="0" y="0"/>
                </a:moveTo>
                <a:lnTo>
                  <a:pt x="33622" y="0"/>
                </a:lnTo>
                <a:lnTo>
                  <a:pt x="32222" y="1400"/>
                </a:lnTo>
                <a:lnTo>
                  <a:pt x="1400" y="1400"/>
                </a:lnTo>
                <a:close/>
              </a:path>
              <a:path fill="darken" w="33622" h="21600">
                <a:moveTo>
                  <a:pt x="33622" y="0"/>
                </a:moveTo>
                <a:lnTo>
                  <a:pt x="33622" y="21600"/>
                </a:lnTo>
                <a:lnTo>
                  <a:pt x="32222" y="20200"/>
                </a:lnTo>
                <a:lnTo>
                  <a:pt x="32222" y="1400"/>
                </a:lnTo>
                <a:close/>
              </a:path>
              <a:path fill="darkenLess" w="33622" h="21600">
                <a:moveTo>
                  <a:pt x="3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2" y="20200"/>
                </a:lnTo>
                <a:close/>
              </a:path>
              <a:path fill="lighten" w="3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89480" y="264960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9480" y="265788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4360" y="2657880"/>
            <a:ext cx="1102320" cy="667800"/>
          </a:xfrm>
          <a:custGeom>
            <a:avLst/>
            <a:gdLst>
              <a:gd name="textAreaLeft" fmla="*/ 43200 w 1102320"/>
              <a:gd name="textAreaRight" fmla="*/ 1059120 w 11023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00" y="2657880"/>
            <a:ext cx="1043640" cy="667800"/>
          </a:xfrm>
          <a:custGeom>
            <a:avLst/>
            <a:gdLst>
              <a:gd name="textAreaLeft" fmla="*/ 43200 w 1043640"/>
              <a:gd name="textAreaRight" fmla="*/ 1000440 w 10436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750" h="21600">
                <a:moveTo>
                  <a:pt x="0" y="0"/>
                </a:moveTo>
                <a:lnTo>
                  <a:pt x="33750" y="0"/>
                </a:lnTo>
                <a:lnTo>
                  <a:pt x="33750" y="21600"/>
                </a:lnTo>
                <a:lnTo>
                  <a:pt x="0" y="21600"/>
                </a:lnTo>
                <a:close/>
              </a:path>
              <a:path fill="lightenLess" w="33750" h="21600">
                <a:moveTo>
                  <a:pt x="0" y="0"/>
                </a:moveTo>
                <a:lnTo>
                  <a:pt x="33750" y="0"/>
                </a:lnTo>
                <a:lnTo>
                  <a:pt x="32350" y="1400"/>
                </a:lnTo>
                <a:lnTo>
                  <a:pt x="1400" y="1400"/>
                </a:lnTo>
                <a:close/>
              </a:path>
              <a:path fill="darken" w="33750" h="21600">
                <a:moveTo>
                  <a:pt x="33750" y="0"/>
                </a:moveTo>
                <a:lnTo>
                  <a:pt x="33750" y="21600"/>
                </a:lnTo>
                <a:lnTo>
                  <a:pt x="32350" y="20200"/>
                </a:lnTo>
                <a:lnTo>
                  <a:pt x="32350" y="1400"/>
                </a:lnTo>
                <a:close/>
              </a:path>
              <a:path fill="darkenLess" w="33750" h="21600">
                <a:moveTo>
                  <a:pt x="3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0" y="20200"/>
                </a:lnTo>
                <a:close/>
              </a:path>
              <a:path fill="lighten" w="3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verb. Remember a verb is an action word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flies is the verb in this sentence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3606840"/>
            <a:ext cx="2070000" cy="1835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an x under the verb in each sente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caught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jumped into the w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sat quietly on the r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se are the correct verbs that you should have put an x under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u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the wat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etly on the ru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ll in the following sentences with a verb (action word)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              down the hi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Kendell          after the ball to get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Ryan            the ball to Spenc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on a category to begin.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Nouns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_x000b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Nou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are described as a person, place, or thing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52280"/>
          <a:ext cx="7696080" cy="60195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an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wthorne E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b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ate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99864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81080" y="3276720"/>
            <a:ext cx="93996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648320"/>
            <a:ext cx="833400" cy="137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82560" cy="8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962520" y="2209680"/>
            <a:ext cx="1752480" cy="12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495680" y="5240160"/>
            <a:ext cx="1217880" cy="8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38480" y="3886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00800" y="762120"/>
            <a:ext cx="13701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6705720" y="2362320"/>
            <a:ext cx="1285920" cy="117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6629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53080" y="5029200"/>
            <a:ext cx="1543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noun in this sentence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095880" y="31240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81080" y="31240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3429000" y="31240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724280" y="3124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27620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 is a noun in the sentence it refers to a th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3565440"/>
            <a:ext cx="2374920" cy="21052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noun. Remember a noun is a person, place or th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8686800" cy="6858000"/>
          </a:xfrm>
          <a:custGeom>
            <a:avLst/>
            <a:gdLst>
              <a:gd name="textAreaLeft" fmla="*/ 444240 w 8686800"/>
              <a:gd name="textAreaRight" fmla="*/ 8242560 w 8686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121140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685800"/>
            <a:ext cx="6400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ouns in these sentences. Put an x under each word that is a no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is took his dog to the 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yla played with her do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vid fell asleep in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971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971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54:28Z</dcterms:created>
  <dc:creator>owner</dc:creator>
  <dc:description/>
  <dc:language>en-US</dc:language>
  <cp:lastModifiedBy>Beth Ann</cp:lastModifiedBy>
  <dcterms:modified xsi:type="dcterms:W3CDTF">2009-04-13T00:39:26Z</dcterms:modified>
  <cp:revision>38</cp:revision>
  <dc:subject/>
  <dc:title>Parts of Speech:  Nouns, Adjectives, Adverbs</dc:title>
</cp:coreProperties>
</file>