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20.wmf" ContentType="image/x-wmf"/>
  <Override PartName="/ppt/media/image14.jpeg" ContentType="image/jpeg"/>
  <Override PartName="/ppt/media/image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8F24-4637-4843-9715-49F58F2F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F02F-334B-4740-B10E-908550A7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252-CE2D-4FC7-9139-ABED4B1B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42C-D462-4979-B617-6C07C46A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3619-2C4E-468A-9CCF-4C1ED0AD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3F18-7FA9-4E59-B859-83AA1130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307A-6FCB-4DC6-A856-E7534B7B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B1D3-D5F8-433E-9F02-F38CC7AA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2EAC-3625-4241-B386-32FBD75C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5D5A-4746-4A62-9E4C-9BF105FB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6D16-102A-4E6C-9635-86D34135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46D-F75D-4028-BFBD-AFA221B1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6789-728E-4D79-B4D1-7A13B3A1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0B00-88E6-4CCA-9897-2B7B2E28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7D40-D138-4840-AD65-87792B34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4F7F-F9C9-4DE6-AE60-2065176C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C6F3-9D7F-47FB-8F9A-2234D711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952-1C61-46F3-8315-9A858161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E32C-4977-4B76-B4C9-7AD7386A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DB8-BA5D-4364-B3AA-2301F85D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9C5C-D326-4835-AAB1-1581DAB6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048-58D7-4093-A876-8703BD13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3289-E486-4ECD-AD88-667E258E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942-00CD-455B-B870-BA7D228D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48627a"/>
              </a:gs>
              <a:gs pos="100000">
                <a:srgbClr val="53718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371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5956-9168-49EF-BFC0-B977346322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70AD-A46E-4CB6-A659-BA17C6466F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3718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Realism and Fantasy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we will identify whether a story is realistic or fantasy by looking at the cover of the 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186696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400800" y="2133720"/>
            <a:ext cx="2421000" cy="173988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73915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647960" cy="37828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21960" y="457200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79400" y="457200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>
            <a:hlinkClick r:id="rId2" action="ppaction://hlinksldjump"/>
          </p:cNvPr>
          <p:cNvSpPr/>
          <p:nvPr/>
        </p:nvSpPr>
        <p:spPr>
          <a:xfrm>
            <a:off x="175248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609588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rId2" action="ppaction://hlinksldjump"/>
          </p:cNvPr>
          <p:cNvSpPr/>
          <p:nvPr/>
        </p:nvSpPr>
        <p:spPr>
          <a:xfrm>
            <a:off x="7086600" y="5562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746748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3733920" cy="3708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074600" y="434340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79400" y="434340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1752480" y="5334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>
            <a:hlinkClick r:id="rId3" action="ppaction://hlinksldjump"/>
          </p:cNvPr>
          <p:cNvSpPr/>
          <p:nvPr/>
        </p:nvSpPr>
        <p:spPr>
          <a:xfrm>
            <a:off x="6019920" y="5334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723888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739152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Classic Children's Books - The Complete Adventures of Curious George"/>
          <p:cNvPicPr/>
          <p:nvPr/>
        </p:nvPicPr>
        <p:blipFill>
          <a:blip r:embed="rId1"/>
          <a:stretch/>
        </p:blipFill>
        <p:spPr>
          <a:xfrm>
            <a:off x="2895480" y="304920"/>
            <a:ext cx="3179880" cy="39621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921960" y="449568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55720" y="449568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167652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>
            <a:hlinkClick r:id="rId3" action="ppaction://hlinksldjump"/>
          </p:cNvPr>
          <p:cNvSpPr/>
          <p:nvPr/>
        </p:nvSpPr>
        <p:spPr>
          <a:xfrm>
            <a:off x="617220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15200" y="53341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Realism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story about something that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could happe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in real lif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324480" y="4038480"/>
            <a:ext cx="2210040" cy="1608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352680" y="4038480"/>
            <a:ext cx="2362320" cy="1490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2209680" cy="124164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7724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4762440" cy="3619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074600" y="446724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55720" y="441972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62920" y="5562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Wonderful Job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562720" y="2286000"/>
            <a:ext cx="2585880" cy="31240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3276360" cy="23288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914400" y="152388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62720" y="1447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56386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ou’re finished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Fantasy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story about something that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could not happe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in real life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1699920" cy="1863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429000" y="4038480"/>
            <a:ext cx="1905120" cy="1684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6095880" y="411480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07732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Directions: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ok at the book cover and decide whether the story is realistic or fantasy.  Click on the button under the answer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181480" y="4648320"/>
            <a:ext cx="1797120" cy="1231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295280" y="4572000"/>
            <a:ext cx="1881360" cy="187164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125880" cy="3810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21960" y="449568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27120" y="449568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175248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594360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046400" cy="39733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723888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638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2" action="ppaction://hlinksldjump"/>
          </p:cNvPr>
          <p:cNvSpPr/>
          <p:nvPr/>
        </p:nvSpPr>
        <p:spPr>
          <a:xfrm>
            <a:off x="76201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340080" cy="4114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90720" y="46483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4648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1600200" y="5638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5867280" y="5638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7391520" y="56386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21:27:53Z</dcterms:created>
  <dc:creator>Lisa Mahoney</dc:creator>
  <dc:description/>
  <dc:language>en-US</dc:language>
  <cp:lastModifiedBy>Beth Ann</cp:lastModifiedBy>
  <dcterms:modified xsi:type="dcterms:W3CDTF">2009-04-13T00:54:37Z</dcterms:modified>
  <cp:revision>23</cp:revision>
  <dc:subject/>
  <dc:title>Realism and Fantasy</dc:title>
</cp:coreProperties>
</file>