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6.wmf" ContentType="image/x-wmf"/>
  <Override PartName="/ppt/media/image20.wmf" ContentType="image/x-wmf"/>
  <Override PartName="/ppt/media/image14.jpeg" ContentType="image/jpeg"/>
  <Override PartName="/ppt/media/image1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.wmf" ContentType="image/x-wmf"/>
  <Override PartName="/ppt/media/image3.wmf" ContentType="image/x-wmf"/>
  <Override PartName="/ppt/media/image15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61FB-28D2-4A92-9F36-B27C33C4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6ABD-A5A9-49AE-B254-62C296DB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3986-B443-4C5D-AB51-41B751F0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A367-75FE-4BB3-A781-F1FF5816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2450-141A-4E95-A4F6-BCD69D33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3284-57F7-414D-B785-B6E6EF36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E6FB-D19A-4E5E-B6A1-9A99736B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56EE-DBE8-4783-B84E-6CC2065E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A060-00E0-460C-B54F-64BAB6FB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6B9A-60C2-4EC9-A857-B8126A7C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2EF9-F6BA-423A-A6DB-3B2F5A96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6724-00FA-4300-B4FC-E8A46733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01BB-58CC-4F5D-A71A-849399AB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EC96-4E14-45CB-A7BA-A5A898A9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3213-2BCE-4A4E-B757-8C87CDEE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FB9A-D39B-407B-9A13-C4E6F921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08C6-D262-400C-A5E6-865DA4F0E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4E37-6348-42AD-A62D-78C90C3F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41AD-F394-4550-822C-E6170620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0004-CE40-4400-9945-AA66E0E2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F91F-A4EB-4176-8139-65AA8484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CB8C-8360-44B6-9850-2706BA6D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332C-AADB-4778-A7EB-126990EC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4EBE-7CED-4F63-A4A4-3849895F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48627a"/>
              </a:gs>
              <a:gs pos="100000">
                <a:srgbClr val="53718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466886"/>
                </a:gs>
                <a:gs pos="100000">
                  <a:srgbClr val="5371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5f7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5f76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35c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7892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5874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371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97cf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35DC-71DF-4496-BC16-13BDA7DA02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466886"/>
                </a:gs>
                <a:gs pos="100000">
                  <a:srgbClr val="5371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5f7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5f76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35c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7892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5874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A83A-329F-4B70-A072-EDCCBB612B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3718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97cf2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6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Realism and Fantasy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 we will identify whether a story is realistic or fantasy by looking at the cover of the 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1866960" cy="1473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6400800" y="2133720"/>
            <a:ext cx="2421000" cy="173988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>
            <a:hlinkClick r:id="rId2" action="ppaction://hlinksldjump"/>
          </p:cNvPr>
          <p:cNvSpPr/>
          <p:nvPr/>
        </p:nvSpPr>
        <p:spPr>
          <a:xfrm>
            <a:off x="739152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647960" cy="37828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21960" y="457200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79400" y="457200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>
            <a:hlinkClick r:id="rId2" action="ppaction://hlinksldjump"/>
          </p:cNvPr>
          <p:cNvSpPr/>
          <p:nvPr/>
        </p:nvSpPr>
        <p:spPr>
          <a:xfrm>
            <a:off x="175248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>
            <a:hlinkClick r:id="rId3" action="ppaction://hlinksldjump"/>
          </p:cNvPr>
          <p:cNvSpPr/>
          <p:nvPr/>
        </p:nvSpPr>
        <p:spPr>
          <a:xfrm>
            <a:off x="609588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>
            <a:hlinkClick r:id="rId2" action="ppaction://hlinksldjump"/>
          </p:cNvPr>
          <p:cNvSpPr/>
          <p:nvPr/>
        </p:nvSpPr>
        <p:spPr>
          <a:xfrm>
            <a:off x="7086600" y="5562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>
            <a:hlinkClick r:id="rId2" action="ppaction://hlinksldjump"/>
          </p:cNvPr>
          <p:cNvSpPr/>
          <p:nvPr/>
        </p:nvSpPr>
        <p:spPr>
          <a:xfrm>
            <a:off x="7467480" y="54100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3733920" cy="3708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074600" y="434340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79400" y="434340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>
            <a:hlinkClick r:id="rId2" action="ppaction://hlinksldjump"/>
          </p:cNvPr>
          <p:cNvSpPr/>
          <p:nvPr/>
        </p:nvSpPr>
        <p:spPr>
          <a:xfrm>
            <a:off x="1752480" y="53341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>
            <a:hlinkClick r:id="rId3" action="ppaction://hlinksldjump"/>
          </p:cNvPr>
          <p:cNvSpPr/>
          <p:nvPr/>
        </p:nvSpPr>
        <p:spPr>
          <a:xfrm>
            <a:off x="6019920" y="53341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>
            <a:hlinkClick r:id="rId2" action="ppaction://hlinksldjump"/>
          </p:cNvPr>
          <p:cNvSpPr/>
          <p:nvPr/>
        </p:nvSpPr>
        <p:spPr>
          <a:xfrm>
            <a:off x="7238880" y="54100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rId2" action="ppaction://hlinksldjump"/>
          </p:cNvPr>
          <p:cNvSpPr/>
          <p:nvPr/>
        </p:nvSpPr>
        <p:spPr>
          <a:xfrm>
            <a:off x="7391520" y="54100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Classic Children's Books - The Complete Adventures of Curious George"/>
          <p:cNvPicPr/>
          <p:nvPr/>
        </p:nvPicPr>
        <p:blipFill>
          <a:blip r:embed="rId1"/>
          <a:stretch/>
        </p:blipFill>
        <p:spPr>
          <a:xfrm>
            <a:off x="2895480" y="304920"/>
            <a:ext cx="3179880" cy="39621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921960" y="449568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55720" y="449568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167652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>
            <a:hlinkClick r:id="rId3" action="ppaction://hlinksldjump"/>
          </p:cNvPr>
          <p:cNvSpPr/>
          <p:nvPr/>
        </p:nvSpPr>
        <p:spPr>
          <a:xfrm>
            <a:off x="617220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315200" y="53341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Realism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story about something that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could happe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in real lif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324480" y="4038480"/>
            <a:ext cx="2210040" cy="1608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352680" y="4038480"/>
            <a:ext cx="2362320" cy="1490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85800" y="4267080"/>
            <a:ext cx="2209680" cy="124164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77724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4762440" cy="3619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074600" y="446724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55720" y="441972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2880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992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62920" y="5562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4100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Wonderful Job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562720" y="2286000"/>
            <a:ext cx="2585880" cy="31240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3276360" cy="23288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914400" y="1523880"/>
            <a:ext cx="228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562720" y="14479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0" y="56386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ou’re finished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Fantasy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story about something that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could not happe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in real life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2120" y="3886200"/>
            <a:ext cx="1699920" cy="1863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429000" y="4038480"/>
            <a:ext cx="1905120" cy="1684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6095880" y="411480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07732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Directions: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ok at the book cover and decide whether the story is realistic or fantasy.  Click on the button under the answer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181480" y="4648320"/>
            <a:ext cx="1797120" cy="1231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295280" y="4572000"/>
            <a:ext cx="1881360" cy="1871640"/>
          </a:xfrm>
          <a:prstGeom prst="rect">
            <a:avLst/>
          </a:prstGeom>
          <a:ln w="0">
            <a:noFill/>
          </a:ln>
        </p:spPr>
      </p:pic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3125880" cy="38102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21960" y="449568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27120" y="449568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175248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rId3" action="ppaction://hlinksldjump"/>
          </p:cNvPr>
          <p:cNvSpPr/>
          <p:nvPr/>
        </p:nvSpPr>
        <p:spPr>
          <a:xfrm>
            <a:off x="594360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046400" cy="39733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723888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638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rId2" action="ppaction://hlinksldjump"/>
          </p:cNvPr>
          <p:cNvSpPr/>
          <p:nvPr/>
        </p:nvSpPr>
        <p:spPr>
          <a:xfrm>
            <a:off x="762012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3340080" cy="4114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990720" y="46483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81480" y="46483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1600200" y="56386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>
            <a:hlinkClick r:id="rId3" action="ppaction://hlinksldjump"/>
          </p:cNvPr>
          <p:cNvSpPr/>
          <p:nvPr/>
        </p:nvSpPr>
        <p:spPr>
          <a:xfrm>
            <a:off x="5867280" y="56386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>
            <a:hlinkClick r:id="rId2" action="ppaction://hlinksldjump"/>
          </p:cNvPr>
          <p:cNvSpPr/>
          <p:nvPr/>
        </p:nvSpPr>
        <p:spPr>
          <a:xfrm>
            <a:off x="7391520" y="56386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21:27:53Z</dcterms:created>
  <dc:creator>Lisa Mahoney</dc:creator>
  <dc:description/>
  <dc:language>en-US</dc:language>
  <cp:lastModifiedBy>Beth Ann</cp:lastModifiedBy>
  <dcterms:modified xsi:type="dcterms:W3CDTF">2009-04-13T00:54:37Z</dcterms:modified>
  <cp:revision>23</cp:revision>
  <dc:subject/>
  <dc:title>Realism and Fantasy</dc:title>
</cp:coreProperties>
</file>