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1.jpeg" ContentType="image/jpeg"/>
  <Override PartName="/ppt/media/image7.wmf" ContentType="image/x-wmf"/>
  <Override PartName="/ppt/media/image6.wmf" ContentType="image/x-wmf"/>
  <Override PartName="/ppt/media/image20.wmf" ContentType="image/x-wmf"/>
  <Override PartName="/ppt/media/image14.jpeg" ContentType="image/jpeg"/>
  <Override PartName="/ppt/media/image1.wmf" ContentType="image/x-wmf"/>
  <Override PartName="/ppt/media/image19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2.wmf" ContentType="image/x-wmf"/>
  <Override PartName="/ppt/media/image3.wmf" ContentType="image/x-wmf"/>
  <Override PartName="/ppt/media/image15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9EC8-FEB5-4CD3-B6CF-E5D3E5E4B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5D61-28FF-4FA9-82B6-0C85E549D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9F27-A61C-45BD-BE18-6BAA19E73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2120-881F-4897-AD08-B6798445A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58F48-AB8F-412A-83E9-F4A165005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A7C7F-CC12-41E1-9AE8-2F1E4C4BD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7DD0D-5455-4C1F-BB99-FD25E849E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380EE-B7F6-4367-B3BC-95AD45510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AFABD-8FB1-4595-A3FC-5569B09D4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E11F4-9B92-4C5F-B217-0FCF5A838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3FF74-331A-4C3A-8BAA-5FE1D495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5647-97E9-453E-A031-19377C98B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8548E-F137-4657-837C-8A51285F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681AF-022C-46AC-A8F1-E00774B0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CEE0D-5161-4FAB-8268-147016473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7ACCC-B634-4B5E-A1CD-FFCB33EF5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29E31-A112-4FFF-98E8-7DDBDB372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EE3A-4F11-4477-A0DE-49E4EA4C3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9CE5-C1FD-4916-8AE1-357C04430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967A-D96A-450D-ADF7-BDFAF7B05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D1DA-3CB7-444B-BA57-210522DF0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741E-2E9F-4322-8750-45FF7519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1994-938E-4C9E-9323-783030CD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E99F-0BB1-44D4-B12C-948CDACE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48627a"/>
              </a:gs>
              <a:gs pos="100000">
                <a:srgbClr val="53718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466886"/>
                </a:gs>
                <a:gs pos="100000">
                  <a:srgbClr val="53718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b667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506d87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d6983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5f7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627a"/>
                  </a:gs>
                  <a:gs pos="100000">
                    <a:srgbClr val="53718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4d6983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48627a"/>
                  </a:gs>
                  <a:gs pos="100000">
                    <a:srgbClr val="53718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b667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48627a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4d6983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48627a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5f76"/>
                  </a:gs>
                  <a:gs pos="100000">
                    <a:srgbClr val="53718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35c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537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537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537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7892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537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5874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4d6983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506d87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6886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6886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6886"/>
                    </a:gs>
                    <a:gs pos="100000">
                      <a:srgbClr val="53718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718c"/>
                    </a:gs>
                    <a:gs pos="100000">
                      <a:srgbClr val="46688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6886"/>
                    </a:gs>
                    <a:gs pos="100000">
                      <a:srgbClr val="53718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718c"/>
                    </a:gs>
                    <a:gs pos="100000">
                      <a:srgbClr val="46688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371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97cf2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69501-6E0F-4333-A4EB-7DCD882D63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466886"/>
                </a:gs>
                <a:gs pos="100000">
                  <a:srgbClr val="53718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b667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506d87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d6983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5f7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627a"/>
                  </a:gs>
                  <a:gs pos="100000">
                    <a:srgbClr val="53718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4d6983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48627a"/>
                  </a:gs>
                  <a:gs pos="100000">
                    <a:srgbClr val="53718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b667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48627a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4d6983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48627a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5f76"/>
                  </a:gs>
                  <a:gs pos="100000">
                    <a:srgbClr val="53718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35c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537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537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537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7892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537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5874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4d6983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506d87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6886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6886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6886"/>
                    </a:gs>
                    <a:gs pos="100000">
                      <a:srgbClr val="53718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718c"/>
                    </a:gs>
                    <a:gs pos="100000">
                      <a:srgbClr val="46688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6886"/>
                    </a:gs>
                    <a:gs pos="100000">
                      <a:srgbClr val="53718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718c"/>
                    </a:gs>
                    <a:gs pos="100000">
                      <a:srgbClr val="46688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18BE1-B55E-464D-9A6F-CB2A77F8B4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3718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97cf2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16.xml"/><Relationship Id="rId3" Type="http://schemas.openxmlformats.org/officeDocument/2006/relationships/slide" Target="slide15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19.xml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7.xml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9144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Realism and Fantasy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day we will identify whether a story is realistic or fantasy by looking at the cover of the boo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80880" y="2286000"/>
            <a:ext cx="1866960" cy="14731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6400800" y="2133720"/>
            <a:ext cx="2421000" cy="1739880"/>
          </a:xfrm>
          <a:prstGeom prst="rect">
            <a:avLst/>
          </a:prstGeom>
          <a:ln w="0">
            <a:noFill/>
          </a:ln>
        </p:spPr>
      </p:pic>
      <p:sp>
        <p:nvSpPr>
          <p:cNvPr id="215" name="">
            <a:hlinkClick r:id="" action="ppaction://hlinkshowjump?jump=nextslide"/>
          </p:cNvPr>
          <p:cNvSpPr/>
          <p:nvPr/>
        </p:nvSpPr>
        <p:spPr>
          <a:xfrm>
            <a:off x="7467480" y="57150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Try Again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3809880" cy="367056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304920" y="541008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ook at the title and picture on the cover closel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>
            <a:hlinkClick r:id="rId2" action="ppaction://hlinksldjump"/>
          </p:cNvPr>
          <p:cNvSpPr/>
          <p:nvPr/>
        </p:nvSpPr>
        <p:spPr>
          <a:xfrm>
            <a:off x="7391520" y="548640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2133720" y="457200"/>
            <a:ext cx="4647960" cy="37828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921960" y="4572000"/>
            <a:ext cx="232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alist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279400" y="4572000"/>
            <a:ext cx="21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antas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>
            <a:hlinkClick r:id="rId2" action="ppaction://hlinksldjump"/>
          </p:cNvPr>
          <p:cNvSpPr/>
          <p:nvPr/>
        </p:nvSpPr>
        <p:spPr>
          <a:xfrm>
            <a:off x="1752480" y="54864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>
            <a:hlinkClick r:id="rId3" action="ppaction://hlinksldjump"/>
          </p:cNvPr>
          <p:cNvSpPr/>
          <p:nvPr/>
        </p:nvSpPr>
        <p:spPr>
          <a:xfrm>
            <a:off x="6095880" y="54100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You are Correct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4046760" cy="39733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710640" y="5638680"/>
            <a:ext cx="60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go to the next sl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>
            <a:hlinkClick r:id="rId2" action="ppaction://hlinksldjump"/>
          </p:cNvPr>
          <p:cNvSpPr/>
          <p:nvPr/>
        </p:nvSpPr>
        <p:spPr>
          <a:xfrm>
            <a:off x="7086600" y="556272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7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Try Again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3809880" cy="367056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304920" y="541008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ook at the title and picture on the cover closel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>
            <a:hlinkClick r:id="rId2" action="ppaction://hlinksldjump"/>
          </p:cNvPr>
          <p:cNvSpPr/>
          <p:nvPr/>
        </p:nvSpPr>
        <p:spPr>
          <a:xfrm>
            <a:off x="7467480" y="541008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4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2209680" y="304920"/>
            <a:ext cx="3733920" cy="37083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1074600" y="4343400"/>
            <a:ext cx="232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alist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279400" y="4343400"/>
            <a:ext cx="21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antas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>
            <a:hlinkClick r:id="rId2" action="ppaction://hlinksldjump"/>
          </p:cNvPr>
          <p:cNvSpPr/>
          <p:nvPr/>
        </p:nvSpPr>
        <p:spPr>
          <a:xfrm>
            <a:off x="1752480" y="53341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>
            <a:hlinkClick r:id="rId3" action="ppaction://hlinksldjump"/>
          </p:cNvPr>
          <p:cNvSpPr/>
          <p:nvPr/>
        </p:nvSpPr>
        <p:spPr>
          <a:xfrm>
            <a:off x="6019920" y="53341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You are Correct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4046760" cy="39733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710640" y="5638680"/>
            <a:ext cx="60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go to the next sl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>
            <a:hlinkClick r:id="rId2" action="ppaction://hlinksldjump"/>
          </p:cNvPr>
          <p:cNvSpPr/>
          <p:nvPr/>
        </p:nvSpPr>
        <p:spPr>
          <a:xfrm>
            <a:off x="7238880" y="541008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8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Try Again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3809880" cy="367056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304920" y="541008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ook at the title and picture on the cover closel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>
            <a:hlinkClick r:id="rId2" action="ppaction://hlinksldjump"/>
          </p:cNvPr>
          <p:cNvSpPr/>
          <p:nvPr/>
        </p:nvSpPr>
        <p:spPr>
          <a:xfrm>
            <a:off x="7391520" y="541008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5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Classic Children's Books - The Complete Adventures of Curious George"/>
          <p:cNvPicPr/>
          <p:nvPr/>
        </p:nvPicPr>
        <p:blipFill>
          <a:blip r:embed="rId1"/>
          <a:stretch/>
        </p:blipFill>
        <p:spPr>
          <a:xfrm>
            <a:off x="2895480" y="304920"/>
            <a:ext cx="3179880" cy="396216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921960" y="4495680"/>
            <a:ext cx="232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alist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355720" y="4495680"/>
            <a:ext cx="21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antas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>
            <a:hlinkClick r:id="rId2" action="ppaction://hlinksldjump"/>
          </p:cNvPr>
          <p:cNvSpPr/>
          <p:nvPr/>
        </p:nvSpPr>
        <p:spPr>
          <a:xfrm>
            <a:off x="1676520" y="54864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>
            <a:hlinkClick r:id="rId3" action="ppaction://hlinksldjump"/>
          </p:cNvPr>
          <p:cNvSpPr/>
          <p:nvPr/>
        </p:nvSpPr>
        <p:spPr>
          <a:xfrm>
            <a:off x="6172200" y="54864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You are Correct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4046760" cy="397332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710640" y="5638680"/>
            <a:ext cx="60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go to the next sl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162920" y="548640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9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Try Again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3809880" cy="367056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304920" y="541008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ook at the title and picture on the cover closel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315200" y="533412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6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Realism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 story about something that 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could happen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in real lif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324480" y="4038480"/>
            <a:ext cx="2210040" cy="16081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352680" y="4038480"/>
            <a:ext cx="2362320" cy="14907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685800" y="4267080"/>
            <a:ext cx="2209680" cy="1241640"/>
          </a:xfrm>
          <a:prstGeom prst="rect">
            <a:avLst/>
          </a:prstGeom>
          <a:ln w="0">
            <a:noFill/>
          </a:ln>
        </p:spPr>
      </p:pic>
      <p:sp>
        <p:nvSpPr>
          <p:cNvPr id="221" name="">
            <a:hlinkClick r:id="" action="ppaction://hlinkshowjump?jump=nextslide"/>
          </p:cNvPr>
          <p:cNvSpPr/>
          <p:nvPr/>
        </p:nvSpPr>
        <p:spPr>
          <a:xfrm>
            <a:off x="7772400" y="58672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1905120" y="380880"/>
            <a:ext cx="4762440" cy="36198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1074600" y="4467240"/>
            <a:ext cx="232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alist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355720" y="4419720"/>
            <a:ext cx="21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antas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828800" y="54864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019920" y="54100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You are Correct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4046760" cy="397332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710640" y="5638680"/>
            <a:ext cx="60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go to the next sl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162920" y="556272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0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3000"/>
                            </p:stCondLst>
                            <p:childTnLst>
                              <p:par>
                                <p:cTn id="2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Try Again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3809880" cy="36705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304920" y="541008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ook at the title and picture on the cover closel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315200" y="541008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7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Wonderful Job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5562720" y="2286000"/>
            <a:ext cx="2585880" cy="312408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62120" y="2438280"/>
            <a:ext cx="3276360" cy="232884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914400" y="1523880"/>
            <a:ext cx="228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alist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562720" y="144792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antas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286000" y="563868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You’re finished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7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0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3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Fantasy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 story about something that 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could not happen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in real life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762120" y="3886200"/>
            <a:ext cx="1699920" cy="1863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3429000" y="4038480"/>
            <a:ext cx="1905120" cy="16844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6095880" y="4114800"/>
            <a:ext cx="2286000" cy="1671480"/>
          </a:xfrm>
          <a:prstGeom prst="rect">
            <a:avLst/>
          </a:prstGeom>
          <a:ln w="0">
            <a:noFill/>
          </a:ln>
        </p:spPr>
      </p:pic>
      <p:sp>
        <p:nvSpPr>
          <p:cNvPr id="227" name="">
            <a:hlinkClick r:id="" action="ppaction://hlinkshowjump?jump=nextslide"/>
          </p:cNvPr>
          <p:cNvSpPr/>
          <p:nvPr/>
        </p:nvSpPr>
        <p:spPr>
          <a:xfrm>
            <a:off x="8077320" y="57913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Directions: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ook at the book cover and decide whether the story is realistic or fantasy.  Click on the button under the answer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181480" y="4648320"/>
            <a:ext cx="1797120" cy="12319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1295280" y="4572000"/>
            <a:ext cx="1881360" cy="1871640"/>
          </a:xfrm>
          <a:prstGeom prst="rect">
            <a:avLst/>
          </a:prstGeom>
          <a:ln w="0">
            <a:noFill/>
          </a:ln>
        </p:spPr>
      </p:pic>
      <p:sp>
        <p:nvSpPr>
          <p:cNvPr id="232" name="">
            <a:hlinkClick r:id="" action="ppaction://hlinkshowjump?jump=nextslide"/>
          </p:cNvPr>
          <p:cNvSpPr/>
          <p:nvPr/>
        </p:nvSpPr>
        <p:spPr>
          <a:xfrm>
            <a:off x="7924680" y="57150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2666880" y="380880"/>
            <a:ext cx="3125880" cy="38102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921960" y="4495680"/>
            <a:ext cx="232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alist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127120" y="4495680"/>
            <a:ext cx="21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antas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>
            <a:hlinkClick r:id="rId2" action="ppaction://hlinksldjump"/>
          </p:cNvPr>
          <p:cNvSpPr/>
          <p:nvPr/>
        </p:nvSpPr>
        <p:spPr>
          <a:xfrm>
            <a:off x="1752480" y="54100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>
            <a:hlinkClick r:id="rId3" action="ppaction://hlinksldjump"/>
          </p:cNvPr>
          <p:cNvSpPr/>
          <p:nvPr/>
        </p:nvSpPr>
        <p:spPr>
          <a:xfrm>
            <a:off x="5943600" y="54100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You are Correct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286000" y="1447920"/>
            <a:ext cx="4046400" cy="39733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7238880" y="548640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563868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go to the next sl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Try Again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3809880" cy="367056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304920" y="541008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ook at the title and picture on the cover closel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>
            <a:hlinkClick r:id="rId2" action="ppaction://hlinksldjump"/>
          </p:cNvPr>
          <p:cNvSpPr/>
          <p:nvPr/>
        </p:nvSpPr>
        <p:spPr>
          <a:xfrm>
            <a:off x="7620120" y="548640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2514600" y="380880"/>
            <a:ext cx="3340080" cy="41148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990720" y="4648320"/>
            <a:ext cx="312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alist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81480" y="464832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antas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>
            <a:hlinkClick r:id="rId2" action="ppaction://hlinksldjump"/>
          </p:cNvPr>
          <p:cNvSpPr/>
          <p:nvPr/>
        </p:nvSpPr>
        <p:spPr>
          <a:xfrm>
            <a:off x="1600200" y="56386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>
            <a:hlinkClick r:id="rId3" action="ppaction://hlinksldjump"/>
          </p:cNvPr>
          <p:cNvSpPr/>
          <p:nvPr/>
        </p:nvSpPr>
        <p:spPr>
          <a:xfrm>
            <a:off x="5867280" y="56386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You are Correct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4046760" cy="39733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710640" y="5638680"/>
            <a:ext cx="60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go to the next sl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>
            <a:hlinkClick r:id="rId2" action="ppaction://hlinksldjump"/>
          </p:cNvPr>
          <p:cNvSpPr/>
          <p:nvPr/>
        </p:nvSpPr>
        <p:spPr>
          <a:xfrm>
            <a:off x="7391520" y="563868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6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9T21:27:53Z</dcterms:created>
  <dc:creator>Lisa Mahoney</dc:creator>
  <dc:description/>
  <dc:language>en-US</dc:language>
  <cp:lastModifiedBy>Beth Ann</cp:lastModifiedBy>
  <dcterms:modified xsi:type="dcterms:W3CDTF">2009-04-13T00:54:37Z</dcterms:modified>
  <cp:revision>23</cp:revision>
  <dc:subject/>
  <dc:title>Realism and Fantasy</dc:title>
</cp:coreProperties>
</file>