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20.wmf" ContentType="image/x-wmf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137-F8C0-4CD6-B192-B25725AD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19A-B2AE-4D20-903F-8BB4F40F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F86-BC5C-40E0-9CF7-2E957F60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EE1-A8CC-4AE9-9341-6072C751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38D0-595D-40FD-9EA8-E310D16E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F9D5-B9D5-41F6-A9D1-18485295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9DD0-E93C-46DA-80DF-D2722DE9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D560-A87B-4255-9978-D97533DF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8008-EDAB-4837-8A54-2C476429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E7CD-0E6D-40D4-A491-A910BD21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F59E-3249-4D8F-AB5D-1B26AE20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FFA-18FC-4326-83C4-5499E6C4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BC5A-0136-4AD1-BBF4-44AB3281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3FC8-F569-465C-98D9-90D3ABB0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9D7F-60A4-4213-8476-66023802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D41D-0C53-4B5C-9274-34DA4D15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ECC4-DFB5-47F2-AA2B-833EE098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3E8-25EF-47D0-976C-D67B56E0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E62-233E-4B93-9207-702456AF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2C6-2318-4085-9144-37E357D5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367-A1BA-45F1-87F1-121D7CD8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E96-A3E2-4CA6-9F07-EDEBDE65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841-0744-4354-AE09-BFBBE325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DC8-029C-493D-BA53-E65B5171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F465-7DCD-48E6-BCB7-3BF0611B3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B6AC-B224-484F-B362-5691FA933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37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 and 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will identify whether a story is realistic or fantasy by looking at the cover of the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421000" cy="17398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73915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647960" cy="3782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21960" y="45720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79400" y="45720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175248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0958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08660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74674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3733920" cy="3708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74600" y="43434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79400" y="43434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175248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601992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72388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39152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Classic Children's Books - The Complete Adventures of Curious George"/>
          <p:cNvPicPr/>
          <p:nvPr/>
        </p:nvPicPr>
        <p:blipFill>
          <a:blip r:embed="rId1"/>
          <a:stretch/>
        </p:blipFill>
        <p:spPr>
          <a:xfrm>
            <a:off x="2895480" y="304920"/>
            <a:ext cx="3179880" cy="3962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557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167652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61722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53341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24480" y="4038480"/>
            <a:ext cx="2210040" cy="160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352680" y="4038480"/>
            <a:ext cx="2362320" cy="1490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209680" cy="124164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7724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4762440" cy="3619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074600" y="446724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55720" y="441972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Wonderful Job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585880" cy="3124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276360" cy="23288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15238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1447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5638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’re finished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not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1699920" cy="1863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1905120" cy="168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095880" y="411480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Directions: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ok at the book cover and decide whether the story is realistic or fantasy.  Click on the button under the answ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797120" cy="1231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1881360" cy="187164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125880" cy="3810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71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17524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594360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046400" cy="39733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888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638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201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34008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90720" y="46483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648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160020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586728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391520" y="56386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1:27:53Z</dcterms:created>
  <dc:creator>Lisa Mahoney</dc:creator>
  <dc:description/>
  <dc:language>en-US</dc:language>
  <cp:lastModifiedBy>Beth Ann</cp:lastModifiedBy>
  <dcterms:modified xsi:type="dcterms:W3CDTF">2009-04-13T00:54:37Z</dcterms:modified>
  <cp:revision>23</cp:revision>
  <dc:subject/>
  <dc:title>Realism and Fantasy</dc:title>
</cp:coreProperties>
</file>