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BA11-99BE-4B7B-B5DB-97949F70E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the teacher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may need to be taught how to save to their designated location and how to print only selected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i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 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sel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4-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text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DBF-204D-4A3D-854C-4390B248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55E-56F0-4C0D-BBA4-DADCB8F7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CF0-19E8-44BC-8BCF-65B8EC41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9BE-C142-4CBA-8566-48D4CA55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F212-A043-4DF5-A328-F56B48D2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8393-67CF-4BF1-A7F6-6B3B672C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C733-A990-4D75-BB7F-58515353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A09B-2ADC-4D8E-A0F7-FF7A4E6E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AC05-F1F4-40E6-A430-847759EE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D857-40D7-4F21-B5C5-3058500D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6460-B635-4FD2-8174-7F45395F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6DE-7E56-461A-BF4B-7F16E4DA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E0D9-F61E-43DE-90FE-86DC928C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8724-DDBF-40FA-9739-E5C1580D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4A60-6D77-4F85-80CC-95310E83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A526-B54B-468C-8024-D9FD4ECE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E291-948E-42AE-B86A-3B1CF1D6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A32-5A6C-48FC-8479-385D207B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C20-AB39-4AA4-9481-5EDA7550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776-D104-4555-BD26-190F24C3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48E-160C-4C24-A1E6-AAD173BC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9FDC-3149-4C7F-ABE1-A16059A7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5B4-01AC-425D-9D70-B13C6E38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BF57-2B5E-4956-8A34-41BE78E3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5875-32DF-40BF-B4D4-1C6B2D7BC4D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870F-1AF8-48CE-9182-BCF966DA8C4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manatee.k12.fl.us/sites/elementary/palmasola/klcontractions.htm" TargetMode="External"/><Relationship Id="rId2" Type="http://schemas.openxmlformats.org/officeDocument/2006/relationships/hyperlink" Target="http://english-zone.com/spelling/cont-01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9246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981080" y="1447920"/>
            <a:ext cx="647712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ontractions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7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381880" y="3886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371600"/>
            <a:ext cx="221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7432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10080" y="175248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334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342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342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8120" y="266688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249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52680" y="1371600"/>
            <a:ext cx="1447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2819520"/>
            <a:ext cx="3429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48604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07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75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75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296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81280" y="27432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58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523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ill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819520"/>
            <a:ext cx="2819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6572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52880" y="175248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2235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235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235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235"/>
                            </p:stCondLst>
                            <p:childTnLst>
                              <p:par>
                                <p:cTn id="2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1532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124080" y="2819520"/>
            <a:ext cx="2819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264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61048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2320" y="1371600"/>
            <a:ext cx="3124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4860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315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315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315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7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7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0773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909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2624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059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1371600"/>
            <a:ext cx="2438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1956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3073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73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73"/>
                            </p:stCondLst>
                            <p:childTnLst>
                              <p:par>
                                <p:cTn id="3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7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7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05920" y="3733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481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206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58200" y="4343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676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66688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35920" y="259092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81480" y="1676520"/>
            <a:ext cx="60984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94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943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943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943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22960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2320" y="1371600"/>
            <a:ext cx="3124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819520"/>
            <a:ext cx="4648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01956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2305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305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305"/>
                            </p:stCondLst>
                            <p:childTnLst>
                              <p:par>
                                <p:cTn id="3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7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7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6104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666880" y="2819520"/>
            <a:ext cx="4648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2295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05920" y="3657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657240" y="1523520"/>
            <a:ext cx="762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447920"/>
            <a:ext cx="21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27432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34304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2574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574"/>
                            </p:stCondLst>
                            <p:childTnLst>
                              <p:par>
                                <p:cTn id="3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7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7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30592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9880" y="27432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2524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296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129528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8765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2734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734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734"/>
                            </p:stCondLst>
                            <p:childTnLst>
                              <p:par>
                                <p:cTn id="4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7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7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22960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2814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95680" y="1676520"/>
            <a:ext cx="60984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3552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52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552"/>
                            </p:stCondLst>
                            <p:childTnLst>
                              <p:par>
                                <p:cTn id="4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15328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2275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18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2015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15"/>
                            </p:stCondLst>
                            <p:childTnLst>
                              <p:par>
                                <p:cTn id="5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15"/>
                            </p:stCondLst>
                            <p:childTnLst>
                              <p:par>
                                <p:cTn id="5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7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7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1532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94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153280" y="3962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52680" y="266688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58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305920" y="3962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66520" y="1295280"/>
            <a:ext cx="221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743200"/>
            <a:ext cx="312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2295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295"/>
                            </p:stCondLst>
                            <p:childTnLst>
                              <p:par>
                                <p:cTn id="5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295"/>
                            </p:stCondLst>
                            <p:childTnLst>
                              <p:par>
                                <p:cTn id="5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818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971800" y="2743200"/>
            <a:ext cx="312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2085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3818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62160" y="1295280"/>
            <a:ext cx="533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274320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’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1" dur="2444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444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6444"/>
                            </p:stCondLst>
                            <p:childTnLst>
                              <p:par>
                                <p:cTn id="5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229600" y="4038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191120" y="274320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’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846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133720" y="0"/>
            <a:ext cx="7619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ecide which is the correct contraction . Type an X in the box next to the one you choos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2193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’n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 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’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’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’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057400"/>
            <a:ext cx="167652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629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l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’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l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o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’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4419720"/>
            <a:ext cx="167652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’s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’d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1676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Narrow"/>
              </a:rPr>
              <a:t>nam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33720" y="0"/>
            <a:ext cx="7619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ecide which is the correct contraction . Type an X in the box next to the one you choos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05740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 ___________ go out to pla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n’t                      isn’t                    can’t                    it’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258920" cy="128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219320" y="327672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boy___________ eat his lunch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on’t                     they’re                  don’t                 w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449568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Jeff ___________ find the book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sn’t                     I’m                    can’t                      they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577692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____________  coming to our clas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’t                     isn’t                    won’t                  are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0" y="1676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Narrow"/>
              </a:rPr>
              <a:t>nam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800100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Before you go, print slides 34 and 35.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For more practice with contractions, click on the links below.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manatee.k12.fl.us/sites/elementary/palmasola/klcontractions.ht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/>
              </a:rPr>
              <a:t>http://english-zone.com/spelling/cont-01.html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188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523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952880" y="1828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55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54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54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07732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767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12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05920" y="3505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9000" y="1371600"/>
            <a:ext cx="990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274320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288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22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225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225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5345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339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3342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00100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76720" y="1371600"/>
            <a:ext cx="1218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0288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62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24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624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059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053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634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3:43:34Z</dcterms:created>
  <dc:creator>Cathy Cunningham</dc:creator>
  <dc:description/>
  <dc:language>en-US</dc:language>
  <cp:lastModifiedBy>BCPS</cp:lastModifiedBy>
  <dcterms:modified xsi:type="dcterms:W3CDTF">2006-03-07T13:29:55Z</dcterms:modified>
  <cp:revision>30</cp:revision>
  <dc:subject>OIT</dc:subject>
  <dc:title>The Kite Contractions Resource</dc:title>
</cp:coreProperties>
</file>