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gif" ContentType="image/gif"/>
  <Override PartName="/ppt/media/image4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0E348-2056-473B-A381-B1B785FC26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o the teacher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ents may need to be taught how to save to their designated location and how to print only selected sli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Prin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int Rang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select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l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34-3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n the text 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E799-E6F2-4095-906C-86C5137AC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1B44-31E9-4862-8A68-ED0BEAAB7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449F-E9C9-4B5B-9696-E7B66EBAC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D8E0-F6B0-46D6-ABC5-624BF3BD2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26405-1925-4366-84FD-BF386354E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133CB-1179-409B-B2A9-5F243C4C8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B9C49-17B0-4BB1-89C6-58A81E3DB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A4D48-5230-4D91-9CDA-111A63C81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5412D-F403-49E4-A4CE-C515FBB4B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8C591-C6E4-4D7D-B819-C1D0110AF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62E2F-D133-42B4-8550-FF4055E16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E0AA-24BD-4C24-B70B-603F34B85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E9A7E-176E-44F0-9F0F-B6D293F1D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94B91-F581-4DEF-AFB5-EE7BD75FD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19CD4-8F6E-4355-A95D-2E498D57C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C6864-C73D-49CD-924B-C45BDB9B3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6AC11-37C4-477C-8658-55EF2FBF4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B5C6-8342-4E82-BF13-B8B91311F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FE09-B624-4286-A5BC-8379852C0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568C-5F9E-4DC9-ACAB-CD91AF2CD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8D31-CCE0-41C2-B582-8B0DCD70D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AEE9-FFDE-4D28-8ACD-D6710F084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D5AF-D33D-46B2-B01D-5EADE823C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CDB2-3AAA-43C4-B3C6-0EC74BD01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CE07B-CF54-4882-8E41-DC1BB4D094C6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5C413-6434-4FB5-B85B-D5DFAC55F0A5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www.manatee.k12.fl.us/sites/elementary/palmasola/klcontractions.htm" TargetMode="External"/><Relationship Id="rId2" Type="http://schemas.openxmlformats.org/officeDocument/2006/relationships/hyperlink" Target="http://english-zone.com/spelling/cont-01.html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924680" y="30481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1981080" y="1447920"/>
            <a:ext cx="6477120" cy="197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Contractions</a:t>
            </a:r>
            <a:endParaRPr b="0" i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273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8381880" y="3886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666520" y="1371600"/>
            <a:ext cx="2210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does</a:t>
            </a:r>
            <a:endParaRPr b="0" lang="en-US" sz="7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876920" y="1371600"/>
            <a:ext cx="21333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no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48120" y="2743200"/>
            <a:ext cx="3429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doesn’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410080" y="175248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5" dur="3342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6342"/>
                            </p:stCondLst>
                            <p:childTnLst>
                              <p:par>
                                <p:cTn id="1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342"/>
                            </p:stCondLst>
                            <p:childTnLst>
                              <p:par>
                                <p:cTn id="182" nodeType="after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75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75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8381880" y="3429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048120" y="2666880"/>
            <a:ext cx="3429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doesn’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1" dur="2494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352680" y="1371600"/>
            <a:ext cx="14479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did</a:t>
            </a:r>
            <a:endParaRPr b="0" lang="en-US" sz="7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76920" y="1371600"/>
            <a:ext cx="21333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no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657600" y="2819520"/>
            <a:ext cx="34290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didn’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8381880" y="3429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5486040" y="1676520"/>
            <a:ext cx="609480" cy="99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1" dur="2075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75"/>
                            </p:stCondLst>
                            <p:childTnLst>
                              <p:par>
                                <p:cTn id="2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6075"/>
                            </p:stCondLst>
                            <p:childTnLst>
                              <p:par>
                                <p:cTn id="218" nodeType="after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75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75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8229600" y="3733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581280" y="2743200"/>
            <a:ext cx="3429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didn’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7" dur="2584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971440" y="1371600"/>
            <a:ext cx="15238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will</a:t>
            </a:r>
            <a:endParaRPr b="0" lang="en-US" sz="7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419720" y="1371600"/>
            <a:ext cx="21333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no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24080" y="2819520"/>
            <a:ext cx="28195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won’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8381880" y="3581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657240" y="1752480"/>
            <a:ext cx="609480" cy="990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4952880" y="175248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7" dur="2235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235"/>
                            </p:stCondLst>
                            <p:childTnLst>
                              <p:par>
                                <p:cTn id="2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6235"/>
                            </p:stCondLst>
                            <p:childTnLst>
                              <p:par>
                                <p:cTn id="2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7235"/>
                            </p:stCondLst>
                            <p:childTnLst>
                              <p:par>
                                <p:cTn id="259" nodeType="after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75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75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8153280" y="3657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3124080" y="2819520"/>
            <a:ext cx="28195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won’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8" dur="2644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8610480" y="3809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62320" y="1371600"/>
            <a:ext cx="3124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would</a:t>
            </a:r>
            <a:endParaRPr b="0" lang="en-US" sz="7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952880" y="1371600"/>
            <a:ext cx="21337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no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90920" y="2743200"/>
            <a:ext cx="46479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wouldn’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5486040" y="1752480"/>
            <a:ext cx="609480" cy="990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000"/>
                            </p:stCondLst>
                            <p:childTnLst>
                              <p:par>
                                <p:cTn id="28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8" dur="2315" fill="hold"/>
                                        <p:tgtEl>
                                          <p:spTgt spid="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315"/>
                            </p:stCondLst>
                            <p:childTnLst>
                              <p:par>
                                <p:cTn id="2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6315"/>
                            </p:stCondLst>
                            <p:childTnLst>
                              <p:par>
                                <p:cTn id="295" nodeType="after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75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75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8077320" y="38862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2590920" y="2743200"/>
            <a:ext cx="46479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wouldn’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4" dur="2624" fill="hold"/>
                                        <p:tgtEl>
                                          <p:spTgt spid="1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8305920" y="38862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1371600"/>
            <a:ext cx="2438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could</a:t>
            </a:r>
            <a:endParaRPr b="0" lang="en-US" sz="7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410080" y="1371600"/>
            <a:ext cx="21337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no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48120" y="2743200"/>
            <a:ext cx="46479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couldn’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6019560" y="1752480"/>
            <a:ext cx="609480" cy="990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4" dur="3073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6073"/>
                            </p:stCondLst>
                            <p:childTnLst>
                              <p:par>
                                <p:cTn id="3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7073"/>
                            </p:stCondLst>
                            <p:childTnLst>
                              <p:par>
                                <p:cTn id="331" nodeType="after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75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75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8305920" y="37339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3048120" y="2743200"/>
            <a:ext cx="46479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couldn’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0" dur="2065" fill="hold"/>
                                        <p:tgtEl>
                                          <p:spTgt spid="1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458200" y="43434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971440" y="1371600"/>
            <a:ext cx="1676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can</a:t>
            </a:r>
            <a:endParaRPr b="0" lang="en-US" sz="7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1371600"/>
            <a:ext cx="21337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no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2666880"/>
            <a:ext cx="2819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can’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135920" y="259092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4647960" y="1676520"/>
            <a:ext cx="609480" cy="99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181480" y="1676520"/>
            <a:ext cx="609840" cy="99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2943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943"/>
                            </p:stCondLst>
                            <p:childTnLst>
                              <p:par>
                                <p:cTn id="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943"/>
                            </p:stCondLst>
                            <p:childTnLst>
                              <p:par>
                                <p:cTn id="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6943"/>
                            </p:stCondLst>
                            <p:childTnLst>
                              <p:par>
                                <p:cTn id="38" nodeType="after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75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75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8229600" y="3657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362320" y="1371600"/>
            <a:ext cx="3124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should</a:t>
            </a:r>
            <a:endParaRPr b="0" lang="en-US" sz="7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410080" y="1371600"/>
            <a:ext cx="21337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no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666880" y="2819520"/>
            <a:ext cx="46483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shouldn’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6019560" y="1752480"/>
            <a:ext cx="609480" cy="990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000"/>
                            </p:stCondLst>
                            <p:childTnLst>
                              <p:par>
                                <p:cTn id="359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0" dur="2305" fill="hold"/>
                                        <p:tgtEl>
                                          <p:spTgt spid="1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305"/>
                            </p:stCondLst>
                            <p:childTnLst>
                              <p:par>
                                <p:cTn id="3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6305"/>
                            </p:stCondLst>
                            <p:childTnLst>
                              <p:par>
                                <p:cTn id="367" nodeType="after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75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75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610480" y="3657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2666880" y="2819520"/>
            <a:ext cx="46483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shouldn’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6" dur="2295" fill="hold"/>
                                        <p:tgtEl>
                                          <p:spTgt spid="1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305920" y="36576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657240" y="1523520"/>
            <a:ext cx="762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it</a:t>
            </a:r>
            <a:endParaRPr b="0" lang="en-US" sz="7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495680" y="1447920"/>
            <a:ext cx="2133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is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9880" y="2743200"/>
            <a:ext cx="1905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it’s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343040" y="1676520"/>
            <a:ext cx="609480" cy="99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2000"/>
                            </p:stCondLst>
                            <p:childTnLst>
                              <p:par>
                                <p:cTn id="39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6" dur="2574" fill="hold"/>
                                        <p:tgtEl>
                                          <p:spTgt spid="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5574"/>
                            </p:stCondLst>
                            <p:childTnLst>
                              <p:par>
                                <p:cTn id="398" nodeType="after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75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75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8305920" y="38098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09880" y="2743200"/>
            <a:ext cx="1905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it’s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7" dur="2524" fill="hold"/>
                                        <p:tgtEl>
                                          <p:spTgt spid="2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8229600" y="3733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00400" y="1295280"/>
            <a:ext cx="1828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she</a:t>
            </a:r>
            <a:endParaRPr b="0" lang="en-US" sz="7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29200" y="1295280"/>
            <a:ext cx="21337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is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743200"/>
            <a:ext cx="25905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she’s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4876560" y="1676520"/>
            <a:ext cx="609480" cy="99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2000"/>
                            </p:stCondLst>
                            <p:childTnLst>
                              <p:par>
                                <p:cTn id="42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7" dur="2734" fill="hold"/>
                                        <p:tgtEl>
                                          <p:spTgt spid="2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5734"/>
                            </p:stCondLst>
                            <p:childTnLst>
                              <p:par>
                                <p:cTn id="4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6734"/>
                            </p:stCondLst>
                            <p:childTnLst>
                              <p:par>
                                <p:cTn id="434" nodeType="after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75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75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8229600" y="3657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505320" y="2743200"/>
            <a:ext cx="25905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she’s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3" dur="2814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8381880" y="3581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200400" y="1295280"/>
            <a:ext cx="1828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he</a:t>
            </a:r>
            <a:endParaRPr b="0" lang="en-US" sz="7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648320" y="1295280"/>
            <a:ext cx="21333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is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505320" y="2743200"/>
            <a:ext cx="25905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he’s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495680" y="1676520"/>
            <a:ext cx="609840" cy="99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2000"/>
                            </p:stCondLst>
                            <p:childTnLst>
                              <p:par>
                                <p:cTn id="462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3" dur="3552" fill="hold"/>
                                        <p:tgtEl>
                                          <p:spTgt spid="2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6552"/>
                            </p:stCondLst>
                            <p:childTnLst>
                              <p:par>
                                <p:cTn id="4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7552"/>
                            </p:stCondLst>
                            <p:childTnLst>
                              <p:par>
                                <p:cTn id="470" nodeType="after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75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75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153280" y="3809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3505320" y="2743200"/>
            <a:ext cx="25905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he’s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0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9" dur="2275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8381880" y="3733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200400" y="1295280"/>
            <a:ext cx="1828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we</a:t>
            </a:r>
            <a:endParaRPr b="0" lang="en-US" sz="7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648320" y="1295280"/>
            <a:ext cx="21333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are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05320" y="2743200"/>
            <a:ext cx="25905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we’re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4647960" y="1676520"/>
            <a:ext cx="609480" cy="99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000"/>
                            </p:stCondLst>
                            <p:childTnLst>
                              <p:par>
                                <p:cTn id="49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9" dur="2015" fill="hold"/>
                                        <p:tgtEl>
                                          <p:spTgt spid="2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5015"/>
                            </p:stCondLst>
                            <p:childTnLst>
                              <p:par>
                                <p:cTn id="5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6015"/>
                            </p:stCondLst>
                            <p:childTnLst>
                              <p:par>
                                <p:cTn id="506" nodeType="after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75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75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8153280" y="3733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3505320" y="2743200"/>
            <a:ext cx="25905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we’re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0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5" dur="1946" fill="hold"/>
                                        <p:tgtEl>
                                          <p:spTgt spid="2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153280" y="3962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352680" y="2666880"/>
            <a:ext cx="2819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can’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2584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8305920" y="39625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666520" y="1295280"/>
            <a:ext cx="2210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they</a:t>
            </a:r>
            <a:endParaRPr b="0" lang="en-US" sz="7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648320" y="1295280"/>
            <a:ext cx="21333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are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971800" y="2743200"/>
            <a:ext cx="3124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they’re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4647960" y="1676520"/>
            <a:ext cx="609480" cy="99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000"/>
                            </p:stCondLst>
                            <p:childTnLst>
                              <p:par>
                                <p:cTn id="52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2000"/>
                            </p:stCondLst>
                            <p:childTnLst>
                              <p:par>
                                <p:cTn id="53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5" dur="2295" fill="hold"/>
                                        <p:tgtEl>
                                          <p:spTgt spid="2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5295"/>
                            </p:stCondLst>
                            <p:childTnLst>
                              <p:par>
                                <p:cTn id="5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6295"/>
                            </p:stCondLst>
                            <p:childTnLst>
                              <p:par>
                                <p:cTn id="542" nodeType="after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75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75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381880" y="3733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2971800" y="2743200"/>
            <a:ext cx="3124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they’re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0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1" dur="2085" fill="hold"/>
                                        <p:tgtEl>
                                          <p:spTgt spid="2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8381880" y="3657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962160" y="1295280"/>
            <a:ext cx="533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I</a:t>
            </a:r>
            <a:endParaRPr b="0" lang="en-US" sz="7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8320" y="1295280"/>
            <a:ext cx="21333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am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191120" y="2743200"/>
            <a:ext cx="1523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I’m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4647960" y="1676520"/>
            <a:ext cx="609480" cy="99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0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1000"/>
                            </p:stCondLst>
                            <p:childTnLst>
                              <p:par>
                                <p:cTn id="56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2000"/>
                            </p:stCondLst>
                            <p:childTnLst>
                              <p:par>
                                <p:cTn id="570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1" dur="2444" fill="hold"/>
                                        <p:tgtEl>
                                          <p:spTgt spid="2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5444"/>
                            </p:stCondLst>
                            <p:childTnLst>
                              <p:par>
                                <p:cTn id="5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6444"/>
                            </p:stCondLst>
                            <p:childTnLst>
                              <p:par>
                                <p:cTn id="578" nodeType="after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75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75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8229600" y="4038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4191120" y="2743200"/>
            <a:ext cx="1523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I’m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7" dur="1846" fill="hold"/>
                                        <p:tgtEl>
                                          <p:spTgt spid="2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2133720" y="0"/>
            <a:ext cx="76197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Decide which is the correct contraction . Type an X in the box next to the one you choose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00320" cy="22860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1219320" y="2057400"/>
            <a:ext cx="1676160" cy="21283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can no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cann’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can’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c’nno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76720" y="2057400"/>
            <a:ext cx="1676160" cy="21283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she 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she’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sh’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she’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181480" y="2057400"/>
            <a:ext cx="1676520" cy="21283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they a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the’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they’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the’a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162920" y="2057400"/>
            <a:ext cx="1676160" cy="21283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will no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wil’no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willn’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won’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219320" y="4419720"/>
            <a:ext cx="1676160" cy="21283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re no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ren’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r’no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rent’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276720" y="4419720"/>
            <a:ext cx="1676160" cy="21283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we a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we’a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we’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w’a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81480" y="4419720"/>
            <a:ext cx="1676520" cy="21283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does no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doesnt’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do’sno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doesn’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162920" y="4419720"/>
            <a:ext cx="1676160" cy="21283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did no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d’dno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didnt’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didn’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858000" y="16765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 Narrow"/>
              </a:rPr>
              <a:t>name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7924680" y="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2133720" y="0"/>
            <a:ext cx="76197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Decide which is the correct contraction . Type an X in the box next to the one you choose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219320" y="2057400"/>
            <a:ext cx="7543800" cy="10159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She ___________ go out to play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      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don’t                      isn’t                    can’t                    it’s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990720" y="152280"/>
            <a:ext cx="1258920" cy="128592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1219320" y="3276720"/>
            <a:ext cx="7543800" cy="10159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The boy___________ eat his lunch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      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won’t                     they’re                  don’t                 we’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219320" y="4495680"/>
            <a:ext cx="7543800" cy="10159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Jeff ___________ find the book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      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isn’t                     I’m                    can’t                      they’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219320" y="5776920"/>
            <a:ext cx="7543800" cy="10159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They ____________  coming to our clas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can’t                     isn’t                    won’t                  aren’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858000" y="16765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 Narrow"/>
              </a:rPr>
              <a:t>name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8001000" y="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Before you go, print slides 34 and 35.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For more practice with contractions, click on the links below.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66680" y="23619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b97c01"/>
                </a:solidFill>
                <a:uFillTx/>
                <a:latin typeface="Arial"/>
                <a:hlinkClick r:id="rId1"/>
              </a:rPr>
              <a:t>http://www.manatee.k12.fl.us/sites/elementary/palmasola/klcontractions.ht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b97c01"/>
                </a:solidFill>
                <a:uFillTx/>
                <a:latin typeface="Arial"/>
                <a:hlinkClick r:id="rId2"/>
              </a:rPr>
              <a:t>http://english-zone.com/spelling/cont-01.html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8381880" y="4114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971440" y="1371600"/>
            <a:ext cx="15238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are</a:t>
            </a:r>
            <a:endParaRPr b="0" lang="en-US" sz="7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9720" y="1371600"/>
            <a:ext cx="21333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no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76720" y="2743200"/>
            <a:ext cx="2819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aren’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4952880" y="1828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" dur="2554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554"/>
                            </p:stCondLst>
                            <p:childTnLst>
                              <p:par>
                                <p:cTn id="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6554"/>
                            </p:stCondLst>
                            <p:childTnLst>
                              <p:par>
                                <p:cTn id="74" nodeType="after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75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75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8077320" y="38098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276720" y="2743200"/>
            <a:ext cx="2819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aren’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2125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8305920" y="35053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429000" y="1371600"/>
            <a:ext cx="9907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is</a:t>
            </a:r>
            <a:endParaRPr b="0" lang="en-US" sz="7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419720" y="1371600"/>
            <a:ext cx="21333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no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57600" y="2743200"/>
            <a:ext cx="2819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isn’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5028840" y="1752480"/>
            <a:ext cx="609480" cy="990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" dur="2225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225"/>
                            </p:stCondLst>
                            <p:childTnLst>
                              <p:par>
                                <p:cTn id="10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6225"/>
                            </p:stCondLst>
                            <p:childTnLst>
                              <p:par>
                                <p:cTn id="1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75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75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8534520" y="38862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733920" y="2743200"/>
            <a:ext cx="2819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isn’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9" dur="3342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8001000" y="4114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76720" y="1371600"/>
            <a:ext cx="1218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do</a:t>
            </a:r>
            <a:endParaRPr b="0" lang="en-US" sz="7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19720" y="1371600"/>
            <a:ext cx="21333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no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05320" y="2743200"/>
            <a:ext cx="2819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don’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5028840" y="1752480"/>
            <a:ext cx="609480" cy="990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9" dur="2624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624"/>
                            </p:stCondLst>
                            <p:childTnLst>
                              <p:par>
                                <p:cTn id="1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6624"/>
                            </p:stCondLst>
                            <p:childTnLst>
                              <p:par>
                                <p:cTn id="146" nodeType="after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75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75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8305920" y="38862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505320" y="2743200"/>
            <a:ext cx="2819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don’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5" dur="2634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9T23:43:34Z</dcterms:created>
  <dc:creator>Cathy Cunningham</dc:creator>
  <dc:description/>
  <dc:language>en-US</dc:language>
  <cp:lastModifiedBy>BCPS</cp:lastModifiedBy>
  <dcterms:modified xsi:type="dcterms:W3CDTF">2006-03-07T13:29:55Z</dcterms:modified>
  <cp:revision>30</cp:revision>
  <dc:subject>OIT</dc:subject>
  <dc:title>The Kite Contractions Resource</dc:title>
</cp:coreProperties>
</file>