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454E-BCF5-4EDA-B574-B3C339E5E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o the teacher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may need to be taught how to save to their designated location and how to print only selected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i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nt 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select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4-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the text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5E4F-62A3-437D-A7DD-9EA078F6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93B9-AE7A-49DE-B1A8-F75A9BAF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600-7BAB-487A-A083-DBF10522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11FA-FEDC-4C90-9FBD-0505E321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1D94-6E65-4AE8-9011-2B75973B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CC76-AD29-4C26-8996-40B83541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45DC-BF62-482B-9B4A-CDCD45C9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C639-217A-4FC9-8A95-5BE7AD90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AF5C-EE0F-4A15-9D66-478F41CB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E845-9307-4F7B-8D08-74737C0F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61D8-F989-49EF-999A-F950EE92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E84C-AD5D-4CF7-B9FF-EA7FE1D9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719B-3F9B-4B8A-A725-B2B8949F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FDDC-D082-47FA-BC5F-EA2E39E8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BAE1-003C-4C00-BCDA-A32C277B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FF16-D258-49C1-BBC4-77C54B2C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D6F3-681F-404F-808D-D3A59EA2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D615-38BE-45B0-8B43-5BF55489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56AA-B77F-4315-907E-74C0299F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95A1-FC6E-4B75-B467-438656DF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1F4C-658E-4E15-A3A7-EA64259F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2086-2DEA-40D3-88AF-4F8E124D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6BC-5834-40A5-8122-D9C25172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FAA4-BA6D-4FAF-BC5B-5F73C975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5C8D-E8E8-44BD-B1EF-653F40F6A90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1D27-00CA-41CC-B580-C717CF75341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manatee.k12.fl.us/sites/elementary/palmasola/klcontractions.htm" TargetMode="External"/><Relationship Id="rId2" Type="http://schemas.openxmlformats.org/officeDocument/2006/relationships/hyperlink" Target="http://english-zone.com/spelling/cont-01.html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924680" y="3048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981080" y="1447920"/>
            <a:ext cx="6477120" cy="19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ontractions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73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381880" y="3886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66520" y="1371600"/>
            <a:ext cx="2210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es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743200"/>
            <a:ext cx="3429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es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410080" y="175248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3342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342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342"/>
                            </p:stCondLst>
                            <p:childTnLst>
                              <p:par>
                                <p:cTn id="1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7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7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188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8120" y="2666880"/>
            <a:ext cx="3429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es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2494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52680" y="1371600"/>
            <a:ext cx="1447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id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2819520"/>
            <a:ext cx="3429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i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38188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48604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2075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75"/>
                            </p:stCondLst>
                            <p:childTnLst>
                              <p:par>
                                <p:cTn id="2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75"/>
                            </p:stCondLst>
                            <p:childTnLst>
                              <p:par>
                                <p:cTn id="2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22960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581280" y="2743200"/>
            <a:ext cx="3429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i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2584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71440" y="1371600"/>
            <a:ext cx="1523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ill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2819520"/>
            <a:ext cx="2819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o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381880" y="3581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65724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952880" y="175248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2235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235"/>
                            </p:stCondLst>
                            <p:childTnLst>
                              <p:par>
                                <p:cTn id="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235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7235"/>
                            </p:stCondLst>
                            <p:childTnLst>
                              <p:par>
                                <p:cTn id="2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7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7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1532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124080" y="2819520"/>
            <a:ext cx="2819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o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264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610480" y="3809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2320" y="1371600"/>
            <a:ext cx="3124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ould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1371600"/>
            <a:ext cx="2133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743200"/>
            <a:ext cx="4647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48604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2315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315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315"/>
                            </p:stCondLst>
                            <p:childTnLst>
                              <p:par>
                                <p:cTn id="2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75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75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0773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590920" y="2743200"/>
            <a:ext cx="4647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2624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3059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1371600"/>
            <a:ext cx="2438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ould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1371600"/>
            <a:ext cx="2133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2743200"/>
            <a:ext cx="4647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1956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3073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73"/>
                            </p:stCondLst>
                            <p:childTnLst>
                              <p:par>
                                <p:cTn id="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73"/>
                            </p:stCondLst>
                            <p:childTnLst>
                              <p:par>
                                <p:cTn id="3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75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75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305920" y="3733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048120" y="2743200"/>
            <a:ext cx="4647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" dur="2065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458200" y="4343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440" y="1371600"/>
            <a:ext cx="1676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an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371600"/>
            <a:ext cx="2133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2666880"/>
            <a:ext cx="281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a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35920" y="259092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64796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181480" y="1676520"/>
            <a:ext cx="60984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943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943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943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943"/>
                            </p:stCondLst>
                            <p:childTnLst>
                              <p:par>
                                <p:cTn id="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22960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2320" y="1371600"/>
            <a:ext cx="3124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ould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1371600"/>
            <a:ext cx="2133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2819520"/>
            <a:ext cx="4648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01956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0" dur="2305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305"/>
                            </p:stCondLst>
                            <p:childTnLst>
                              <p:par>
                                <p:cTn id="3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305"/>
                            </p:stCondLst>
                            <p:childTnLst>
                              <p:par>
                                <p:cTn id="3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7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7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6104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666880" y="2819520"/>
            <a:ext cx="4648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2295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305920" y="36576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657240" y="1523520"/>
            <a:ext cx="762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t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1447920"/>
            <a:ext cx="2133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27432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t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34304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2574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574"/>
                            </p:stCondLst>
                            <p:childTnLst>
                              <p:par>
                                <p:cTn id="3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75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75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305920" y="3809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09880" y="27432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t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2524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22960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00400" y="129528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e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29200" y="1295280"/>
            <a:ext cx="2133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e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87656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" dur="2734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734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6734"/>
                            </p:stCondLst>
                            <p:childTnLst>
                              <p:par>
                                <p:cTn id="4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7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7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22960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e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3" dur="2814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381880" y="3581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00400" y="129528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he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129528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he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495680" y="1676520"/>
            <a:ext cx="60984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3" dur="3552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6552"/>
                            </p:stCondLst>
                            <p:childTnLst>
                              <p:par>
                                <p:cTn id="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7552"/>
                            </p:stCondLst>
                            <p:childTnLst>
                              <p:par>
                                <p:cTn id="4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7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7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153280" y="3809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he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9" dur="2275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38188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00400" y="129528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e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129528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e’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64796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9" dur="2015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15"/>
                            </p:stCondLst>
                            <p:childTnLst>
                              <p:par>
                                <p:cTn id="5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6015"/>
                            </p:stCondLst>
                            <p:childTnLst>
                              <p:par>
                                <p:cTn id="5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7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7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15328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e’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5" dur="1946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153280" y="3962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52680" y="2666880"/>
            <a:ext cx="281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a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2584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305920" y="3962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66520" y="1295280"/>
            <a:ext cx="2210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they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129528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2743200"/>
            <a:ext cx="3124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they’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64796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5" dur="2295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295"/>
                            </p:stCondLst>
                            <p:childTnLst>
                              <p:par>
                                <p:cTn id="5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6295"/>
                            </p:stCondLst>
                            <p:childTnLst>
                              <p:par>
                                <p:cTn id="5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7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7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38188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971800" y="2743200"/>
            <a:ext cx="3124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they’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1" dur="2085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3818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62160" y="1295280"/>
            <a:ext cx="533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8320" y="129528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m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2743200"/>
            <a:ext cx="1523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’m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64796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1" dur="2444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444"/>
                            </p:stCondLst>
                            <p:childTnLst>
                              <p:par>
                                <p:cTn id="5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6444"/>
                            </p:stCondLst>
                            <p:childTnLst>
                              <p:par>
                                <p:cTn id="5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7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7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8229600" y="4038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191120" y="2743200"/>
            <a:ext cx="1523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’m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846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133720" y="0"/>
            <a:ext cx="7619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Decide which is the correct contraction . Type an X in the box next to the one you choos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219320" y="205740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n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n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’n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205740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e 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e’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’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e’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057400"/>
            <a:ext cx="167652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y 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’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y’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’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162920" y="205740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ill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il’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ill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o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41972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e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e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’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ent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441972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 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’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’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’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81480" y="4419720"/>
            <a:ext cx="167652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oes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oesnt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o’s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oes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441972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id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’d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idnt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id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0" y="16765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Narrow"/>
              </a:rPr>
              <a:t>nam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7924680" y="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133720" y="0"/>
            <a:ext cx="7619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Decide which is the correct contraction . Type an X in the box next to the one you choos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2057400"/>
            <a:ext cx="7543800" cy="10159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e ___________ go out to play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on’t                      isn’t                    can’t                    it’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1258920" cy="1285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219320" y="3276720"/>
            <a:ext cx="7543800" cy="10159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 boy___________ eat his lunch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on’t                     they’re                  don’t                 we’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19320" y="4495680"/>
            <a:ext cx="7543800" cy="10159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Jeff ___________ find the book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sn’t                     I’m                    can’t                      they’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5776920"/>
            <a:ext cx="7543800" cy="10159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y ____________  coming to our clas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n’t                     isn’t                    won’t                  are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0" y="16765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Narrow"/>
              </a:rPr>
              <a:t>nam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8001000" y="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Before you go, print slides 34 and 35.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For more practice with contractions, click on the links below.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2361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manatee.k12.fl.us/sites/elementary/palmasola/klcontractions.ht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2"/>
              </a:rPr>
              <a:t>http://english-zone.com/spelling/cont-01.html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1880" y="4114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71440" y="1371600"/>
            <a:ext cx="1523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re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743200"/>
            <a:ext cx="281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re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952880" y="1828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255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554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554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077320" y="3809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276720" y="2743200"/>
            <a:ext cx="281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re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125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05920" y="3505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29000" y="1371600"/>
            <a:ext cx="990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2743200"/>
            <a:ext cx="281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02884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222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225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225"/>
                            </p:stCondLst>
                            <p:childTnLst>
                              <p:par>
                                <p:cTn id="1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7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7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5345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733920" y="2743200"/>
            <a:ext cx="281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3342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001000" y="4114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76720" y="1371600"/>
            <a:ext cx="1218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743200"/>
            <a:ext cx="281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02884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262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624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624"/>
                            </p:stCondLst>
                            <p:childTnLst>
                              <p:par>
                                <p:cTn id="1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059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505320" y="2743200"/>
            <a:ext cx="281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2634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23:43:34Z</dcterms:created>
  <dc:creator>Cathy Cunningham</dc:creator>
  <dc:description/>
  <dc:language>en-US</dc:language>
  <cp:lastModifiedBy>BCPS</cp:lastModifiedBy>
  <dcterms:modified xsi:type="dcterms:W3CDTF">2006-03-07T13:29:55Z</dcterms:modified>
  <cp:revision>30</cp:revision>
  <dc:subject>OIT</dc:subject>
  <dc:title>The Kite Contractions Resource</dc:title>
</cp:coreProperties>
</file>