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j0388186.wav" ContentType="audio/x-wav"/>
  <Override PartName="/ppt/media/image4.wmf" ContentType="image/x-wmf"/>
  <Override PartName="/ppt/media/image5.wmf" ContentType="image/x-wmf"/>
  <Override PartName="/ppt/media/image6.png" ContentType="image/png"/>
  <Override PartName="/ppt/media/tire%20squeel.wav" ContentType="audio/x-wav"/>
  <Override PartName="/ppt/media/screeching%20tir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326-DCCD-4FBD-A71E-2F2D4E64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07B-497A-44B7-A4D9-81FC4216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39A-5E69-4787-851B-49A968A6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427-81AC-4746-89C7-AB4AFCB4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0D3-381B-4236-91B8-9DEC68C4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D32-0B64-4CDC-BD74-ACC4B567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AC4-128D-428A-A2A1-3940EB6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29F-A312-41EB-8FB6-BC720923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B0F-E9DA-4365-BE04-21E39A89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18C-6D21-44CB-B57C-E551A76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063-B40C-4E06-BF97-2A12A4BD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251-4187-4B7B-B0E6-CDA24D99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D7E2-E3C6-4A7E-909F-8C15C00AB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j0388186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8600" y="228600"/>
            <a:ext cx="2057400" cy="1379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1828800" y="685800"/>
            <a:ext cx="1600200" cy="10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469200">
            <a:off x="1085760" y="4643280"/>
            <a:ext cx="675648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Jamaica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934320" y="457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388186.wav"/>
                                        </p:tgtEl>
                                      </p:cMediaNode>
                                    </p:audio>
                                    <p:animMotion origin="layout" path="M -0.18333 0.25371 C -0.17621 0.24028 -0.16232 0.23125 -0.14948 0.22709 C -0.13246 0.21459 -0.1401 0.21783 -0.12847 0.21389 C -0.12222 0.20625 -0.11701 0.20417 -0.10972 0.19838 C -0.09479 0.18681 -0.08125 0.17315 -0.06423 0.16551 C -0.05902 0.15625 -0.0552 0.15764 -0.04705 0.15232 C -0.03698 0.14561 -0.03871 0.14121 -0.02448 0.13241 C -0.02187 0.13079 -0.01927 0.12987 -0.01684 0.12801 C -0.00069 0.11366 0.00903 0.09352 0.02309 0.07709 C 0.02431 0.07408 0.02639 0.07153 0.02674 0.06829 C 0.02709 0.06158 0.02414 0.04653 0.01927 0.04167 C 0.01511 0.03727 0.01042 0.03403 0.00591 0.03056 C 0.004 0.02917 0.00209 0.02755 0.00018 0.02616 C -0.00173 0.02454 -0.00538 0.02199 -0.00538 0.02223 C -0.02378 -0.01018 -0.03385 -0.00995 -0.06423 -0.01805 C -0.06909 -0.03472 -0.07291 -0.05138 -0.07552 -0.06898 C -0.07448 -0.08773 -0.07552 -0.09745 -0.07187 -0.11273 C -0.06892 -0.12546 -0.06336 -0.13402 -0.05659 -0.14375 C -0.04218 -0.16481 -0.04062 -0.16759 -0.01684 -0.17453 C -0.00347 -0.18495 -0.0092 -0.18032 0.00018 -0.18773 C 0.00348 -0.19051 0.01146 -0.19236 0.01146 -0.19213 C 0.02361 -0.20254 0.02952 -0.19629 0.03629 -0.21226 C 0.03507 -0.22476 0.03507 -0.2375 0.03247 -0.24976 C 0.03073 -0.25787 0.01528 -0.26504 0.01528 -0.26481 C 0.0125 -0.27013 0.01094 -0.27592 0.00782 -0.28055 C 0.00452 -0.28611 -3.33332999999988E-006 -0.29051 -0.00364 -0.29606 C -0.00555 -0.3037 -0.00711 -0.30926 -0.01111 -0.31597 C -0.01493 -0.32916 -0.01927 -0.33819 -0.01302 -0.3537 C -0.01284 -0.35439 0.00764 -0.3706 0.00955 -0.37106 C 0.01893 -0.38703 0.02431 -0.38263 0.04375 -0.38426 C 0.05712 -0.38958 0.05122 -0.3875 0.06094 -0.39074 C 0.079 -0.38981 0.12118 -0.37963 0.13664 -0.39745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6765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3657600" y="54864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My uncle worked at the ticket _____________ at the f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1500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-3.61111E-006 -0.02404 C -0.00312 -0.04208 -0.00295 -0.04485 -0.00295 -0.06843 L -0.35017 -0.06843 L -0.35017 -0.3156 L -0.2375 -0.3156 L -0.2375 -0.10011 L -0.13489 -0.10011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91944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52388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5760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he gave the bus driver a __________ in order to be able to 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410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55556E-007 4.10405E-006 L 5.55556E-007 -0.02335 L -0.05868 -0.02335 L -0.05868 -0.41642 L 0.01754 -0.41434 L 0.01754 -0.24948 L 0.13021 -0.24948 L 0.13021 -0.41018 E">
                                      <p:cBhvr>
                                        <p:cTn id="1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6576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The _________________ of the town announced his new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3.88889E-006 -4.79769E-006 L 0.03958 -0.00231 L 0.03802 0.18174 L -0.14757 0.18382 L -0.14757 0.35076 L 0.07291 0.35076 E">
                                      <p:cBhvr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 put my ______________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581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28600" y="9144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We have to stop at the next _______________ to ge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33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143000" y="50292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Finished the Ra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5.55556E-007 1.90751E-006 L 5.55556E-007 -0.39098 L 0.05556 -0.39098 E">
                                      <p:cBhvr>
                                        <p:cTn id="23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27778E-006 -1.7341E-007 L 5.27778E-006 -0.13735 L 0.30799 -0.13735 L 0.30799 0.05294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nother name for an underground train is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3.61111E-006 2.31214E-006 L -0.00156 0.34451 L 0.42066 0.34451 E"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1:20:35Z</dcterms:created>
  <dc:creator>SSpangler1</dc:creator>
  <dc:description/>
  <dc:language>en-US</dc:language>
  <cp:lastModifiedBy>Beth Ann</cp:lastModifiedBy>
  <dcterms:modified xsi:type="dcterms:W3CDTF">2009-04-13T00:47:30Z</dcterms:modified>
  <cp:revision>62</cp:revision>
  <dc:subject/>
  <dc:title>Slide 1</dc:title>
</cp:coreProperties>
</file>