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j0388186.wav" ContentType="audio/x-wav"/>
  <Override PartName="/ppt/media/image4.wmf" ContentType="image/x-wmf"/>
  <Override PartName="/ppt/media/image5.wmf" ContentType="image/x-wmf"/>
  <Override PartName="/ppt/media/image6.png" ContentType="image/png"/>
  <Override PartName="/ppt/media/tire%20squeel.wav" ContentType="audio/x-wav"/>
  <Override PartName="/ppt/media/screeching%20tire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31DE-EEB0-456E-85FB-BE3B9213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0B6-157D-4696-AAE0-9D875667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07B-8836-4F4A-8B04-2AF4E0D3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0AF-4D98-4EEE-A722-FDED8986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F770-840F-4111-AF1A-DFC612AD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66E-10B4-4A3F-AB96-AE4B3128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83AA-D9B3-48D4-BE56-44611B2A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F905-57F3-4678-8939-61CBBA6D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0ECC-CA90-45AF-B877-7B8381FA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9A8F-891E-4359-A3A7-F8D1A874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44B-B8A8-4179-A52B-54D22FA6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2ECF-2AB1-4F52-83B3-E6D34F1E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5C53-A4B1-4D8E-B881-F08F52E69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j0388186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tire%20squeel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tire%20squee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43" name="Cloud"/>
          <p:cNvSpPr/>
          <p:nvPr/>
        </p:nvSpPr>
        <p:spPr>
          <a:xfrm>
            <a:off x="228600" y="228600"/>
            <a:ext cx="2057400" cy="1379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1828800" y="685800"/>
            <a:ext cx="1600200" cy="1073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971800" y="3886200"/>
            <a:ext cx="2895480" cy="2158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21469200">
            <a:off x="1085760" y="4643280"/>
            <a:ext cx="6756480" cy="15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Century Gothic"/>
              </a:rPr>
              <a:t>Jamaica 5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Century Gothic"/>
              <a:ea typeface="Century Gothic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6934320" y="45720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388186.wav"/>
                                        </p:tgtEl>
                                      </p:cMediaNode>
                                    </p:audio>
                                    <p:animMotion origin="layout" path="M -0.18333 0.25371 C -0.17621 0.24028 -0.16232 0.23125 -0.14948 0.22709 C -0.13246 0.21459 -0.1401 0.21783 -0.12847 0.21389 C -0.12222 0.20625 -0.11701 0.20417 -0.10972 0.19838 C -0.09479 0.18681 -0.08125 0.17315 -0.06423 0.16551 C -0.05902 0.15625 -0.0552 0.15764 -0.04705 0.15232 C -0.03698 0.14561 -0.03871 0.14121 -0.02448 0.13241 C -0.02187 0.13079 -0.01927 0.12987 -0.01684 0.12801 C -0.00069 0.11366 0.00903 0.09352 0.02309 0.07709 C 0.02431 0.07408 0.02639 0.07153 0.02674 0.06829 C 0.02709 0.06158 0.02414 0.04653 0.01927 0.04167 C 0.01511 0.03727 0.01042 0.03403 0.00591 0.03056 C 0.004 0.02917 0.00209 0.02755 0.00018 0.02616 C -0.00173 0.02454 -0.00538 0.02199 -0.00538 0.02223 C -0.02378 -0.01018 -0.03385 -0.00995 -0.06423 -0.01805 C -0.06909 -0.03472 -0.07291 -0.05138 -0.07552 -0.06898 C -0.07448 -0.08773 -0.07552 -0.09745 -0.07187 -0.11273 C -0.06892 -0.12546 -0.06336 -0.13402 -0.05659 -0.14375 C -0.04218 -0.16481 -0.04062 -0.16759 -0.01684 -0.17453 C -0.00347 -0.18495 -0.0092 -0.18032 0.00018 -0.18773 C 0.00348 -0.19051 0.01146 -0.19236 0.01146 -0.19213 C 0.02361 -0.20254 0.02952 -0.19629 0.03629 -0.21226 C 0.03507 -0.22476 0.03507 -0.2375 0.03247 -0.24976 C 0.03073 -0.25787 0.01528 -0.26504 0.01528 -0.26481 C 0.0125 -0.27013 0.01094 -0.27592 0.00782 -0.28055 C 0.00452 -0.28611 -3.33332999999988E-006 -0.29051 -0.00364 -0.29606 C -0.00555 -0.3037 -0.00711 -0.30926 -0.01111 -0.31597 C -0.01493 -0.32916 -0.01927 -0.33819 -0.01302 -0.3537 C -0.01284 -0.35439 0.00764 -0.3706 0.00955 -0.37106 C 0.01893 -0.38703 0.02431 -0.38263 0.04375 -0.38426 C 0.05712 -0.38958 0.05122 -0.3875 0.06094 -0.39074 C 0.079 -0.38981 0.12118 -0.37963 0.13664 -0.39745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86600" y="38862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16765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3657600" y="548640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7242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My uncle worked at the ticket _____________ at the fa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1500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0" y="426708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-3.61111E-006 -0.02404 C -0.00312 -0.04208 -0.00295 -0.04485 -0.00295 -0.06843 L -0.35017 -0.06843 L -0.35017 -0.3156 L -0.2375 -0.3156 L -0.2375 -0.10011 L -0.13489 -0.10011 E">
                                      <p:cBhvr>
                                        <p:cTn id="10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919440" cy="371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1523880" y="54100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3657600" y="54100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4648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She gave the bus driver a __________ in order to be able to r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791320" y="54100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5.55556E-007 4.10405E-006 L 5.55556E-007 -0.02335 L -0.05868 -0.02335 L -0.05868 -0.41642 L 0.01754 -0.41434 L 0.01754 -0.24948 L 0.13021 -0.24948 L 0.13021 -0.41018 E">
                                      <p:cBhvr>
                                        <p:cTn id="14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629400" y="4572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15238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4" action="ppaction://hlinksldjump"/>
          </p:cNvPr>
          <p:cNvSpPr/>
          <p:nvPr/>
        </p:nvSpPr>
        <p:spPr>
          <a:xfrm>
            <a:off x="365760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The _________________ of the town announced his new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7913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629400" y="76212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ire%20squeel.wav"/>
                                        </p:tgtEl>
                                      </p:cMediaNode>
                                    </p:audio>
                                    <p:animMotion origin="layout" path="M 3.88889E-006 -4.79769E-006 L 0.03958 -0.00231 L 0.03802 0.18174 L -0.14757 0.18382 L -0.14757 0.35076 L 0.07291 0.35076 E">
                                      <p:cBhvr>
                                        <p:cTn id="19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4572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I put my ______________ on the 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14479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35812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228600" y="914400"/>
            <a:ext cx="533520" cy="485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386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086600" y="266688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3" action="ppaction://hlinksldjump"/>
          </p:cNvPr>
          <p:cNvSpPr/>
          <p:nvPr/>
        </p:nvSpPr>
        <p:spPr>
          <a:xfrm>
            <a:off x="15238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57913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4648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We have to stop at the next _______________ to get h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7339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315200" y="29718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1143000" y="5029200"/>
            <a:ext cx="6781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Congratulation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You Finished the Rac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83059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ire%20squeel.wav"/>
                                        </p:tgtEl>
                                      </p:cMediaNode>
                                    </p:audio>
                                    <p:animMotion origin="layout" path="M 5.55556E-007 1.90751E-006 L 5.55556E-007 -0.39098 L 0.05556 -0.39098 E">
                                      <p:cBhvr>
                                        <p:cTn id="235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4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5.27778E-006 -1.7341E-007 L 5.27778E-006 -0.13735 L 0.30799 -0.13735 L 0.30799 0.05294 E">
                                      <p:cBhvr>
                                        <p:cTn id="2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76720" y="167652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880" y="4572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Another name for an underground train is 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ub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7913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3.61111E-006 2.31214E-006 L -0.00156 0.34451 L 0.42066 0.34451 E">
                                      <p:cBhvr>
                                        <p:cTn id="63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21:20:35Z</dcterms:created>
  <dc:creator>SSpangler1</dc:creator>
  <dc:description/>
  <dc:language>en-US</dc:language>
  <cp:lastModifiedBy>Beth Ann</cp:lastModifiedBy>
  <dcterms:modified xsi:type="dcterms:W3CDTF">2009-04-13T00:47:30Z</dcterms:modified>
  <cp:revision>62</cp:revision>
  <dc:subject/>
  <dc:title>Slide 1</dc:title>
</cp:coreProperties>
</file>