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B41B-22DE-4AF3-8C84-624D431DA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3A1F-DBF6-4D14-878C-BE7FF9E1E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ACBA-D55E-4AE6-9588-184F0303C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0E52-446D-4327-BB2A-1118E5533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74054-00E5-4050-96EF-DC8D6E13B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FC026-2C46-46D5-8819-F6C00A970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29C39-B8F7-42D9-A2D6-441EB4378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CB6D2-82CF-4DFF-9572-B1703B304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273CC-B162-4179-9E7F-51A701B71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89D53-FBAB-43A9-B5B1-F3CED24AA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24044-75DD-40B8-A119-FF535EB2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53A3-28F8-4FEC-80FB-A61967288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0623B-7117-4556-92AF-3B3B8840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929F2-623A-44C1-807B-1C6C6BE4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72EC6-3EC9-4BBE-A938-76D7FA9B8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04CC8-03A2-4857-9BDB-B55A4773B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81FDE-D430-4F35-856C-AA7D16D1C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40F2-CCB9-45D0-8865-40E176380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C3C8-5EE0-412D-95A6-B12623AC7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07DE-4120-477C-AD7D-DBE139A9E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93F7-1660-4085-BBD1-05FE481A9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D966-D9B7-4878-B3CA-03399537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ADDB-1BFF-43C8-A6B5-0B1CC4F8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1210-CC7F-4B87-84FF-5989E83E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ootlight MT Ligh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43040" indent="-285840">
              <a:spcBef>
                <a:spcPts val="774"/>
              </a:spcBef>
              <a:buClr>
                <a:srgbClr val="66ccff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ootlight MT Ligh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ootlight MT Ligh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lvl="3" marL="1600200" indent="-228600">
              <a:spcBef>
                <a:spcPts val="774"/>
              </a:spcBef>
              <a:buClr>
                <a:srgbClr val="ff0000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ootlight MT Ligh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lvl="4" marL="2057400" indent="-228600">
              <a:spcBef>
                <a:spcPts val="774"/>
              </a:spcBef>
              <a:buClr>
                <a:srgbClr val="6600ff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ootlight MT Ligh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ootlight MT Ligh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ootlight MT Ligh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99A1C-987C-4C17-83C8-CD20593DD1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ootlight MT Light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ootlight MT Light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ff0000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F0A10-320E-4EB1-B4E3-0A9CDF2E5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ootlight MT Light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ootlight MT Ligh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Footlight MT Light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Footlight MT Ligh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Footlight MT Light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SzPct val="150000"/>
              <a:buFont typeface="Footlight MT Ligh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ootlight MT Light"/>
            </a:endParaRPr>
          </a:p>
          <a:p>
            <a:pPr lvl="4" marL="1828800" algn="ctr">
              <a:spcBef>
                <a:spcPts val="499"/>
              </a:spcBef>
              <a:buClr>
                <a:srgbClr val="6600ff"/>
              </a:buClr>
              <a:buSzPct val="150000"/>
              <a:buFont typeface="Footlight MT Light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ootlight MT Ligh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ootlight MT Ligh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ootlight MT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bcps.org/offices/lis/feebased/index.html" TargetMode="External"/><Relationship Id="rId2" Type="http://schemas.openxmlformats.org/officeDocument/2006/relationships/hyperlink" Target="http://bcpslibraryinformationservices.pbwork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ff0000"/>
                </a:solidFill>
                <a:latin typeface="Arial Black"/>
              </a:rPr>
              <a:t>What is Technology Integration?</a:t>
            </a:r>
            <a:endParaRPr b="0" i="1" lang="en-US" sz="41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ootlight MT Light"/>
              </a:rPr>
              <a:t>Fall 2010</a:t>
            </a:r>
            <a:endParaRPr b="0" lang="en-US" sz="3300" spc="-1" strike="noStrike">
              <a:solidFill>
                <a:srgbClr val="000000"/>
              </a:solidFill>
              <a:latin typeface="Footlight MT Ligh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Arial Black"/>
              </a:rPr>
              <a:t>Why is technology integration becoming so important? (#1)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ootlight MT Light"/>
              </a:rPr>
              <a:t>More individualized for the students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43040" indent="-285840">
              <a:spcBef>
                <a:spcPts val="649"/>
              </a:spcBef>
              <a:buClr>
                <a:srgbClr val="66ccff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ootlight MT Light"/>
              </a:rPr>
              <a:t>Not teacher lead</a:t>
            </a:r>
            <a:endParaRPr b="0" lang="en-US" sz="26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43040" indent="-285840">
              <a:spcBef>
                <a:spcPts val="649"/>
              </a:spcBef>
              <a:buClr>
                <a:srgbClr val="66ccff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ootlight MT Light"/>
              </a:rPr>
              <a:t>More hands on </a:t>
            </a:r>
            <a:endParaRPr b="0" lang="en-US" sz="2600" spc="-1" strike="noStrike">
              <a:solidFill>
                <a:srgbClr val="000000"/>
              </a:solidFill>
              <a:latin typeface="Footlight MT Light"/>
            </a:endParaRPr>
          </a:p>
          <a:p>
            <a:pPr marL="343080" indent="-34308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ootlight MT Light"/>
              </a:rPr>
              <a:t>Support is built into the technology 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 Black"/>
              </a:rPr>
              <a:t>How does technology support a constructivist approach to instruction?</a:t>
            </a:r>
            <a:r>
              <a:rPr b="0" lang="en-US" sz="2900" spc="-1" strike="noStrike">
                <a:solidFill>
                  <a:srgbClr val="ff0000"/>
                </a:solidFill>
                <a:latin typeface="Arial Black"/>
              </a:rPr>
              <a:t> (#2)</a:t>
            </a:r>
            <a:endParaRPr b="0" lang="en-US" sz="29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79246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Individual to each learner</a:t>
            </a: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66ccff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Can connect to their prior knowledge</a:t>
            </a:r>
            <a:endParaRPr b="0" lang="en-US" sz="22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66ccff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Freedom to make personal connections</a:t>
            </a:r>
            <a:endParaRPr b="0" lang="en-US" sz="2200" spc="-1" strike="noStrike">
              <a:solidFill>
                <a:srgbClr val="000000"/>
              </a:solidFill>
              <a:latin typeface="Footlight MT Light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E-Portfolios and ways to share information</a:t>
            </a: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Learner centered environment- they can “own” the information and learning</a:t>
            </a: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No limits to the learning</a:t>
            </a: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Self- directed </a:t>
            </a: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Usage of different mediums (videos, flipcams, and </a:t>
            </a: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Arial Black"/>
              </a:rPr>
              <a:t>What are barriers teachers face when it comes to tech integration? (#3) </a:t>
            </a:r>
            <a:endParaRPr b="0" lang="en-US" sz="29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Preparation- teachers feel unprepared</a:t>
            </a: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66ccff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Lack of computers</a:t>
            </a:r>
            <a:endParaRPr b="0" lang="en-US" sz="22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66ccff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Lack of tech support</a:t>
            </a:r>
            <a:endParaRPr b="0" lang="en-US" sz="22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66ccff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Lack of professional development </a:t>
            </a:r>
            <a:endParaRPr b="0" lang="en-US" sz="2200" spc="-1" strike="noStrike">
              <a:solidFill>
                <a:srgbClr val="000000"/>
              </a:solidFill>
              <a:latin typeface="Footlight MT Light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Know the programs…let the students know the program</a:t>
            </a: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Develop a Plan</a:t>
            </a: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Thin-client technology” </a:t>
            </a: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Simplified IT management</a:t>
            </a: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Customize desk configuration </a:t>
            </a: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 Black"/>
              </a:rPr>
              <a:t>Why is technology integration the perfect tool for accommodating different learning styles?</a:t>
            </a:r>
            <a:endParaRPr b="0" lang="en-US" sz="25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ootlight MT Light"/>
              </a:rPr>
              <a:t>Garners’ Multiple Intelligences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20720" indent="-277200">
              <a:spcBef>
                <a:spcPts val="649"/>
              </a:spcBef>
              <a:buClr>
                <a:srgbClr val="66ccff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ootlight MT Light"/>
              </a:rPr>
              <a:t>Computer can meet numerous needs all at once</a:t>
            </a:r>
            <a:endParaRPr b="0" lang="en-US" sz="26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20720" indent="-277200">
              <a:spcBef>
                <a:spcPts val="649"/>
              </a:spcBef>
              <a:buClr>
                <a:srgbClr val="66ccff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ootlight MT Light"/>
              </a:rPr>
              <a:t>Ex. Logical- Math—game formats and math formats; visual-spatial – saving folders; kinetics - eye-hand coordination</a:t>
            </a:r>
            <a:endParaRPr b="0" lang="en-US" sz="2600" spc="-1" strike="noStrike">
              <a:solidFill>
                <a:srgbClr val="000000"/>
              </a:solidFill>
              <a:latin typeface="Footlight MT Light"/>
            </a:endParaRPr>
          </a:p>
          <a:p>
            <a:pPr marL="332640" indent="-33264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ootlight MT Light"/>
              </a:rPr>
              <a:t>Learning Preferences and Styles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20720" indent="-277200">
              <a:spcBef>
                <a:spcPts val="649"/>
              </a:spcBef>
              <a:buClr>
                <a:srgbClr val="66ccff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ootlight MT Light"/>
              </a:rPr>
              <a:t>Many programs to satisfied styles of learners </a:t>
            </a:r>
            <a:endParaRPr b="0" lang="en-US" sz="2600" spc="-1" strike="noStrike">
              <a:solidFill>
                <a:srgbClr val="000000"/>
              </a:solidFill>
              <a:latin typeface="Footlight MT Ligh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Arial Black"/>
              </a:rPr>
              <a:t>What resources should/could we be using?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ff3300"/>
                </a:solidFill>
                <a:uFillTx/>
                <a:latin typeface="Footlight MT Light"/>
                <a:hlinkClick r:id="rId1"/>
              </a:rPr>
              <a:t>BCPS Databases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marL="343080" indent="-34308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ff3300"/>
                </a:solidFill>
                <a:uFillTx/>
                <a:latin typeface="Footlight MT Light"/>
                <a:hlinkClick r:id="rId2"/>
              </a:rPr>
              <a:t>Library WIKI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800600" y="1752480"/>
            <a:ext cx="2895480" cy="2239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21:23:11Z</dcterms:created>
  <dc:creator>BCPS</dc:creator>
  <dc:description/>
  <dc:language>en-US</dc:language>
  <cp:lastModifiedBy>BCPS</cp:lastModifiedBy>
  <dcterms:modified xsi:type="dcterms:W3CDTF">2010-09-08T22:21:22Z</dcterms:modified>
  <cp:revision>4</cp:revision>
  <dc:subject/>
  <dc:title>What is Technology Integration?</dc:title>
</cp:coreProperties>
</file>