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8277-9BA9-437A-ACBD-E5AD46F7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700-2650-47F3-9569-AC4C712B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B139-D80F-41AD-9491-EB60B15A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2EA8-EF45-4AC0-9D4A-DAACC312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EF29-6578-42F2-BB96-F5B472E3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5DA5-3374-4944-85F6-7E517686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7069-51A0-40BC-9C0F-8AE5BBA7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066F-E67C-4590-BB68-CA074008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4B23-01E8-4BF9-9EA7-5630C71A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9AAF-C269-4385-950D-875E3DB1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5FE6-7DA6-4239-87D2-05EAB41E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4488-727D-4D5C-A224-0B6B8628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E27E-8B17-4C79-9586-02BEFFC6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5E19-2133-48D7-BBC5-C977DAD6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85D2-CDBC-4ACE-B564-C6D2632B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68A3-DE5D-47BE-89E6-49CCB903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864B-F2E3-44B6-B37D-37F2BC9F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849C-CEB8-4B62-9364-A62FF856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8B58-8D39-4259-89B2-82527B1C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923C-530F-4010-950A-03DC0B26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502-7076-4EB0-B3D5-E5159310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E6A-8062-4C60-B3FB-95A7444D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F449-2706-4DF9-AE07-21538095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A9FF-5CCF-49D7-AD4F-58DFBC07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774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3" marL="1600200" indent="-228600">
              <a:spcBef>
                <a:spcPts val="774"/>
              </a:spcBef>
              <a:buClr>
                <a:srgbClr val="ff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4" marL="2057400" indent="-228600">
              <a:spcBef>
                <a:spcPts val="774"/>
              </a:spcBef>
              <a:buClr>
                <a:srgbClr val="6600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F7B8-065C-43FE-B1C3-5A178B838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ootlight MT Light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ootlight MT Light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5A22-9DF5-4F3C-9596-2CB0645B0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ootlight MT Light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150000"/>
              <a:buFont typeface="Footlight MT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150000"/>
              <a:buFont typeface="Footlight MT Ligh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cps.org/offices/lis/feebased/index.html" TargetMode="External"/><Relationship Id="rId2" Type="http://schemas.openxmlformats.org/officeDocument/2006/relationships/hyperlink" Target="http://bcpslibraryinformationservices.pbwork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0000"/>
                </a:solidFill>
                <a:latin typeface="Arial Black"/>
              </a:rPr>
              <a:t>What is Technology Integration?</a:t>
            </a: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ootlight MT Light"/>
              </a:rPr>
              <a:t>Fall 2010</a:t>
            </a: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Why is technology integration becoming so important? (#1)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More individualized for the student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Not teacher lead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More hands on 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upport is built into the technology 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 Black"/>
              </a:rPr>
              <a:t>How does technology support a constructivist approach to instruction?</a:t>
            </a:r>
            <a:r>
              <a:rPr b="0" lang="en-US" sz="2900" spc="-1" strike="noStrike">
                <a:solidFill>
                  <a:srgbClr val="ff0000"/>
                </a:solidFill>
                <a:latin typeface="Arial Black"/>
              </a:rPr>
              <a:t> (#2)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Individual to each learner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Can connect to their prior knowledge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Freedom to make personal connections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E-Portfolios and ways to share information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Learner centered environment- they can “own” the information and learning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No limits to the learning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Self- directed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Usage of different mediums (videos, flipcams, and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Arial Black"/>
              </a:rPr>
              <a:t>What are barriers teachers face when it comes to tech integration? (#3) 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Preparation- teachers feel unprepared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Lack of computers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Lack of tech support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Lack of professional development 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Know the programs…let the students know the program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Develop a Plan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Thin-client technology”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Simplified IT management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Customize desk configuration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 Black"/>
              </a:rPr>
              <a:t>Why is technology integration the perfect tool for accommodating different learning styles?</a:t>
            </a:r>
            <a:endParaRPr b="0" lang="en-US" sz="25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Garners’ Multiple Intelligence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0720" indent="-27720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Computer can meet numerous needs all at once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0720" indent="-27720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Ex. Logical- Math—game formats and math formats; visual-spatial – saving folders; kinetics - eye-hand coordination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marL="332640" indent="-33264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Learning Preferences and Style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0720" indent="-27720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Many programs to satisfied styles of learners 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What resources should/could we be using?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3300"/>
                </a:solidFill>
                <a:uFillTx/>
                <a:latin typeface="Footlight MT Light"/>
                <a:hlinkClick r:id="rId1"/>
              </a:rPr>
              <a:t>BCPS Database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3300"/>
                </a:solidFill>
                <a:uFillTx/>
                <a:latin typeface="Footlight MT Light"/>
                <a:hlinkClick r:id="rId2"/>
              </a:rPr>
              <a:t>Library WIKI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800600" y="1752480"/>
            <a:ext cx="2895480" cy="223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21:23:11Z</dcterms:created>
  <dc:creator>BCPS</dc:creator>
  <dc:description/>
  <dc:language>en-US</dc:language>
  <cp:lastModifiedBy>BCPS</cp:lastModifiedBy>
  <dcterms:modified xsi:type="dcterms:W3CDTF">2010-09-08T22:21:22Z</dcterms:modified>
  <cp:revision>4</cp:revision>
  <dc:subject/>
  <dc:title>What is Technology Integration?</dc:title>
</cp:coreProperties>
</file>