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4389-2FF1-4B33-BDC8-FF71AFEC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A65-8582-48DA-855F-C3B86EB6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D40-E985-41FC-B34C-52563D6C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11E-2E7B-424A-B9F1-026AB5EC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5003-1ED1-4060-8D23-6108DD45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DC29-39D6-4600-B71A-7CD2D02A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3D4D-2FC4-4937-904E-9510E363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4B21-F27B-462F-9449-6F00FC6C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B729-4CEA-4B6F-A822-32C87FBB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0694-423C-4507-8D91-FF8383CB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218A-8599-46FB-AEC9-C3BD1701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B3E-2484-47F9-AD5E-643F0392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BD4B-2455-486B-8BF8-A268278F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40B8-C7C9-45B0-AADF-235AE341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BB94-6308-44AA-AA70-D07F7319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738D-80FA-4189-BA42-17FC2ED7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3C57-F51F-4610-8DDE-C6ABC2D7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6F5-DF2C-41B9-B062-0140A859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109-2DF1-4B52-9A19-E9598DC3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BBE-5CDA-427B-965A-027B2268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F0B-E46E-42A6-A02A-98F3A11A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955-B4B0-4B05-ACB0-2261BC40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AAE-64AB-4767-AA1D-C567D4E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C87-00B6-4346-93C2-B4B5FECE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65D3-1007-4E82-88EA-97FA2EA56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CE48-A843-40FB-830C-64085DD20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cps.org/offices/lis/feebased/index.html" TargetMode="External"/><Relationship Id="rId2" Type="http://schemas.openxmlformats.org/officeDocument/2006/relationships/hyperlink" Target="http://bcpslibraryinformationservices.pbwork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What is Technology Integration?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Fall 2010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y is technology integration becoming so important? (#1)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More individualized for the student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Not teacher lead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ore hands on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upport is built into the technology 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How does technology support a constructivist approach to instruction?</a:t>
            </a: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 (#2)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Individual to each learner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connect to their prior knowledge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Freedom to make personal connection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E-Portfolios and ways to share informatio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Learner centered environment- they can “own” the information and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No limits to the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elf- directe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Usage of different mediums (videos, flipcams, an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What are barriers teachers face when it comes to tech integration? (#3) 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Preparation- teachers feel unprepared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computer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tech support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professional development 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Know the programs…let the students know the program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Develop a Pla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Thin-client technology”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implified IT management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Customize desk configuration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Why is technology integration the perfect tool for accommodating different learning styles?</a:t>
            </a:r>
            <a:endParaRPr b="0" lang="en-US" sz="25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Garners’ Multiple Intelligenc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Computer can meet numerous needs all at once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Ex. Logical- Math—game formats and math formats; visual-spatial – saving folders; kinetics - eye-hand coordination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Learning Preferences and Styl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any programs to satisfied styles of learners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at resources should/could we be using?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1"/>
              </a:rPr>
              <a:t>BCPS Databas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2"/>
              </a:rPr>
              <a:t>Library WIKI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2895480" cy="223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1:23:11Z</dcterms:created>
  <dc:creator>BCPS</dc:creator>
  <dc:description/>
  <dc:language>en-US</dc:language>
  <cp:lastModifiedBy>BCPS</cp:lastModifiedBy>
  <dcterms:modified xsi:type="dcterms:W3CDTF">2010-09-08T22:21:22Z</dcterms:modified>
  <cp:revision>4</cp:revision>
  <dc:subject/>
  <dc:title>What is Technology Integration?</dc:title>
</cp:coreProperties>
</file>