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7099-0D5D-49B3-9D3A-0815C2455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2A29-F859-4C3C-AAD8-5623F49E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E0A6-C19D-48E6-9B0D-DC1C25C11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CB3A-9BB7-48F7-9DE4-E503B75F1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8B37-91C8-454D-8ADD-48AB5B00A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E1CE-9EEF-4F11-87B3-9928E416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680B-9B24-4918-A156-86FFA990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4448-79CB-453E-AB58-51259DAE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F362-2ACD-41B2-B5FB-5805A806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40EC-FD60-4010-93AC-4AB3F185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481FF-3EFF-433B-9668-EFF4F6BC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2F74-C5A8-4232-9CE0-604F92A9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35C3-D2F9-4797-BB68-F71F2474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5E09-4C44-4365-9361-AC8D1730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9359-7943-46D9-B241-12FEFF11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10BA7-F32E-413F-8D38-CD5361BEF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FDB0-B978-4FC4-8F48-5314D2DD2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E34C-DB87-416E-97A8-96079718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4F99-4A54-4594-9B2A-C573AE23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C9FF-A36E-47FD-B419-57814320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8F2A-709E-4D0C-BE80-B44DB72D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4D2C-26FC-4309-953A-33FA0ED7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339F-2963-47FA-B8D3-55A90D5D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CC6F-AD40-43DC-A13A-DFAA5C35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43040" indent="-285840">
              <a:spcBef>
                <a:spcPts val="774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3" marL="1600200" indent="-228600">
              <a:spcBef>
                <a:spcPts val="774"/>
              </a:spcBef>
              <a:buClr>
                <a:srgbClr val="ff0000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4" marL="2057400" indent="-228600">
              <a:spcBef>
                <a:spcPts val="774"/>
              </a:spcBef>
              <a:buClr>
                <a:srgbClr val="6600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6E31-F288-46E2-B743-8BA1891D8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ootlight MT Light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ootlight MT Light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8FB6-A4D7-4F99-A0C4-F828D36FD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ootlight MT Light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ootlight MT Ligh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Footlight MT Light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Footlight MT Ligh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Footlight MT Light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SzPct val="150000"/>
              <a:buFont typeface="Footlight MT Ligh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ootlight MT Light"/>
            </a:endParaRPr>
          </a:p>
          <a:p>
            <a:pPr lvl="4" marL="1828800" algn="ctr">
              <a:spcBef>
                <a:spcPts val="499"/>
              </a:spcBef>
              <a:buClr>
                <a:srgbClr val="6600ff"/>
              </a:buClr>
              <a:buSzPct val="150000"/>
              <a:buFont typeface="Footlight MT Ligh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ootlight MT Ligh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ootlight MT Ligh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cps.org/offices/lis/feebased/index.html" TargetMode="External"/><Relationship Id="rId2" Type="http://schemas.openxmlformats.org/officeDocument/2006/relationships/hyperlink" Target="http://bcpslibraryinformationservices.pbwork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ff0000"/>
                </a:solidFill>
                <a:latin typeface="Arial Black"/>
              </a:rPr>
              <a:t>What is Technology Integration?</a:t>
            </a:r>
            <a:endParaRPr b="0" i="1" lang="en-US" sz="4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ootlight MT Light"/>
              </a:rPr>
              <a:t>Fall 2010</a:t>
            </a:r>
            <a:endParaRPr b="0" lang="en-US" sz="33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Why is technology integration becoming so important? (#1)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More individualized for the students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43040" indent="-285840">
              <a:spcBef>
                <a:spcPts val="649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ootlight MT Light"/>
              </a:rPr>
              <a:t>Not teacher lead</a:t>
            </a:r>
            <a:endParaRPr b="0" lang="en-US" sz="26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43040" indent="-285840">
              <a:spcBef>
                <a:spcPts val="649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ootlight MT Light"/>
              </a:rPr>
              <a:t>More hands on </a:t>
            </a:r>
            <a:endParaRPr b="0" lang="en-US" sz="26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Support is built into the technology 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 Black"/>
              </a:rPr>
              <a:t>How does technology support a constructivist approach to instruction?</a:t>
            </a:r>
            <a:r>
              <a:rPr b="0" lang="en-US" sz="2900" spc="-1" strike="noStrike">
                <a:solidFill>
                  <a:srgbClr val="ff0000"/>
                </a:solidFill>
                <a:latin typeface="Arial Black"/>
              </a:rPr>
              <a:t> (#2)</a:t>
            </a:r>
            <a:endParaRPr b="0" lang="en-US" sz="29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Individual to each learner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Can connect to their prior knowledge</a:t>
            </a:r>
            <a:endParaRPr b="0" lang="en-US" sz="22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Freedom to make personal connections</a:t>
            </a:r>
            <a:endParaRPr b="0" lang="en-US" sz="2200" spc="-1" strike="noStrike">
              <a:solidFill>
                <a:srgbClr val="000000"/>
              </a:solidFill>
              <a:latin typeface="Footlight MT Light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E-Portfolios and ways to share information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Learner centered environment- they can “own” the information and learning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No limits to the learning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Self- directed 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Usage of different mediums (videos, flipcams, and 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Arial Black"/>
              </a:rPr>
              <a:t>What are barriers teachers face when it comes to tech integration? (#3) </a:t>
            </a:r>
            <a:endParaRPr b="0" lang="en-US" sz="29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Preparation- teachers feel unprepared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Lack of computers</a:t>
            </a:r>
            <a:endParaRPr b="0" lang="en-US" sz="22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Lack of tech support</a:t>
            </a:r>
            <a:endParaRPr b="0" lang="en-US" sz="22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Lack of professional development </a:t>
            </a:r>
            <a:endParaRPr b="0" lang="en-US" sz="22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Know the programs…let the students know the program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Develop a Plan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Thin-client technology” 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Simplified IT management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Customize desk configuration 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 Black"/>
              </a:rPr>
              <a:t>Why is technology integration the perfect tool for accommodating different learning styles?</a:t>
            </a:r>
            <a:endParaRPr b="0" lang="en-US" sz="25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Garners’ Multiple Intelligences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20720" indent="-277200">
              <a:spcBef>
                <a:spcPts val="649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ootlight MT Light"/>
              </a:rPr>
              <a:t>Computer can meet numerous needs all at once</a:t>
            </a:r>
            <a:endParaRPr b="0" lang="en-US" sz="26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20720" indent="-277200">
              <a:spcBef>
                <a:spcPts val="649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ootlight MT Light"/>
              </a:rPr>
              <a:t>Ex. Logical- Math—game formats and math formats; visual-spatial – saving folders; kinetics - eye-hand coordination</a:t>
            </a:r>
            <a:endParaRPr b="0" lang="en-US" sz="2600" spc="-1" strike="noStrike">
              <a:solidFill>
                <a:srgbClr val="000000"/>
              </a:solidFill>
              <a:latin typeface="Footlight MT Light"/>
            </a:endParaRPr>
          </a:p>
          <a:p>
            <a:pPr marL="332640" indent="-33264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Learning Preferences and Styles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20720" indent="-277200">
              <a:spcBef>
                <a:spcPts val="649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ootlight MT Light"/>
              </a:rPr>
              <a:t>Many programs to satisfied styles of learners </a:t>
            </a:r>
            <a:endParaRPr b="0" lang="en-US" sz="26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What resources should/could we be using?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ff3300"/>
                </a:solidFill>
                <a:uFillTx/>
                <a:latin typeface="Footlight MT Light"/>
                <a:hlinkClick r:id="rId1"/>
              </a:rPr>
              <a:t>BCPS Databases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ff3300"/>
                </a:solidFill>
                <a:uFillTx/>
                <a:latin typeface="Footlight MT Light"/>
                <a:hlinkClick r:id="rId2"/>
              </a:rPr>
              <a:t>Library WIKI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800600" y="1752480"/>
            <a:ext cx="2895480" cy="2239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21:23:11Z</dcterms:created>
  <dc:creator>BCPS</dc:creator>
  <dc:description/>
  <dc:language>en-US</dc:language>
  <cp:lastModifiedBy>BCPS</cp:lastModifiedBy>
  <dcterms:modified xsi:type="dcterms:W3CDTF">2010-09-08T22:21:22Z</dcterms:modified>
  <cp:revision>4</cp:revision>
  <dc:subject/>
  <dc:title>What is Technology Integration?</dc:title>
</cp:coreProperties>
</file>