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C53D-4765-46A0-8629-3FED52270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0EA9-4193-4773-9E96-07B6E945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FE33-0CF1-48C8-859D-86C682DA2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AF7F-ADFB-437C-ADEC-B505358E1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67EF-11FA-4FF2-B9D1-9EDB68DA1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8252-9A9C-47B1-BCDA-3935A3ED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59F5-E2B0-4FAF-8871-64140190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2FAD-5A95-4C1C-8C61-AE268699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BC52-071E-464B-A7AC-AEE73303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7217-4AB2-466A-9802-7B22490F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7289-20AC-474F-9BB7-C3805BFC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902C-309F-4E69-965C-30A68A7C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C0B0-8905-40AD-99EE-23C75275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BADF-21B4-45DF-A856-CD9CB400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8350-4C80-4F5D-A8A7-91621097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94BC-26FE-4E5B-85D6-633ED7B1E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92D34-5780-40E9-A294-9EBF7F95E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8A6D-DD43-448C-9AF5-887691D3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0D91-F52F-4CED-A395-1625F924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9198-A50F-4E80-A0EA-6389FE45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DD92-F192-4B6C-9174-42CD6D91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D1A2-E383-449E-9E99-BDC8EBC9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641D-2E87-4662-ABF7-83801B45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0F7C-8DE9-463A-92A9-C207AE67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43040" indent="-285840">
              <a:spcBef>
                <a:spcPts val="774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3" marL="1600200" indent="-228600">
              <a:spcBef>
                <a:spcPts val="774"/>
              </a:spcBef>
              <a:buClr>
                <a:srgbClr val="ff0000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4" marL="2057400" indent="-228600">
              <a:spcBef>
                <a:spcPts val="774"/>
              </a:spcBef>
              <a:buClr>
                <a:srgbClr val="6600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5704-34C5-4B7E-BC99-8403BADDB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ootlight MT Light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ootlight MT Light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C1A5-DC12-4837-A5F7-EAC5C9274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ootlight MT Light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ootlight MT Ligh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Footlight MT Light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Footlight MT Ligh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Footlight MT Light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SzPct val="150000"/>
              <a:buFont typeface="Footlight MT Ligh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ootlight MT Light"/>
            </a:endParaRPr>
          </a:p>
          <a:p>
            <a:pPr lvl="4" marL="1828800" algn="ctr">
              <a:spcBef>
                <a:spcPts val="499"/>
              </a:spcBef>
              <a:buClr>
                <a:srgbClr val="6600ff"/>
              </a:buClr>
              <a:buSzPct val="150000"/>
              <a:buFont typeface="Footlight MT Ligh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ootlight MT Ligh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ootlight MT Ligh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cps.org/offices/lis/feebased/index.html" TargetMode="External"/><Relationship Id="rId2" Type="http://schemas.openxmlformats.org/officeDocument/2006/relationships/hyperlink" Target="http://bcpslibraryinformationservices.pbwork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ff0000"/>
                </a:solidFill>
                <a:latin typeface="Arial Black"/>
              </a:rPr>
              <a:t>What is Technology Integration?</a:t>
            </a: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ootlight MT Light"/>
              </a:rPr>
              <a:t>Fall 2010</a:t>
            </a:r>
            <a:endParaRPr b="0" lang="en-US" sz="33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Why is technology integration becoming so important? (#1)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More individualized for the students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43040" indent="-285840">
              <a:spcBef>
                <a:spcPts val="649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ootlight MT Light"/>
              </a:rPr>
              <a:t>Not teacher lead</a:t>
            </a:r>
            <a:endParaRPr b="0" lang="en-US" sz="26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43040" indent="-285840">
              <a:spcBef>
                <a:spcPts val="649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ootlight MT Light"/>
              </a:rPr>
              <a:t>More hands on </a:t>
            </a:r>
            <a:endParaRPr b="0" lang="en-US" sz="26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Support is built into the technology 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 Black"/>
              </a:rPr>
              <a:t>How does technology support a constructivist approach to instruction?</a:t>
            </a:r>
            <a:r>
              <a:rPr b="0" lang="en-US" sz="2900" spc="-1" strike="noStrike">
                <a:solidFill>
                  <a:srgbClr val="ff0000"/>
                </a:solidFill>
                <a:latin typeface="Arial Black"/>
              </a:rPr>
              <a:t> (#2)</a:t>
            </a:r>
            <a:endParaRPr b="0" lang="en-US" sz="29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Individual to each learner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Can connect to their prior knowledge</a:t>
            </a:r>
            <a:endParaRPr b="0" lang="en-US" sz="22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Freedom to make personal connections</a:t>
            </a:r>
            <a:endParaRPr b="0" lang="en-US" sz="2200" spc="-1" strike="noStrike">
              <a:solidFill>
                <a:srgbClr val="000000"/>
              </a:solidFill>
              <a:latin typeface="Footlight MT Light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E-Portfolios and ways to share information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Learner centered environment- they can “own” the information and learning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No limits to the learning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Self- directed 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Usage of different mediums (videos, flipcams, and 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Arial Black"/>
              </a:rPr>
              <a:t>What are barriers teachers face when it comes to tech integration? (#3) </a:t>
            </a:r>
            <a:endParaRPr b="0" lang="en-US" sz="29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Preparation- teachers feel unprepared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Lack of computers</a:t>
            </a:r>
            <a:endParaRPr b="0" lang="en-US" sz="22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Lack of tech support</a:t>
            </a:r>
            <a:endParaRPr b="0" lang="en-US" sz="22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Lack of professional development </a:t>
            </a:r>
            <a:endParaRPr b="0" lang="en-US" sz="22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Know the programs…let the students know the program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Develop a Plan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Thin-client technology” 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Simplified IT management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Customize desk configuration 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 Black"/>
              </a:rPr>
              <a:t>Why is technology integration the perfect tool for accommodating different learning styles?</a:t>
            </a:r>
            <a:endParaRPr b="0" lang="en-US" sz="25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Garners’ Multiple Intelligences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20720" indent="-277200">
              <a:spcBef>
                <a:spcPts val="649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ootlight MT Light"/>
              </a:rPr>
              <a:t>Computer can meet numerous needs all at once</a:t>
            </a:r>
            <a:endParaRPr b="0" lang="en-US" sz="26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20720" indent="-277200">
              <a:spcBef>
                <a:spcPts val="649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ootlight MT Light"/>
              </a:rPr>
              <a:t>Ex. Logical- Math—game formats and math formats; visual-spatial – saving folders; kinetics - eye-hand coordination</a:t>
            </a:r>
            <a:endParaRPr b="0" lang="en-US" sz="2600" spc="-1" strike="noStrike">
              <a:solidFill>
                <a:srgbClr val="000000"/>
              </a:solidFill>
              <a:latin typeface="Footlight MT Light"/>
            </a:endParaRPr>
          </a:p>
          <a:p>
            <a:pPr marL="332640" indent="-33264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Learning Preferences and Styles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20720" indent="-277200">
              <a:spcBef>
                <a:spcPts val="649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ootlight MT Light"/>
              </a:rPr>
              <a:t>Many programs to satisfied styles of learners </a:t>
            </a:r>
            <a:endParaRPr b="0" lang="en-US" sz="26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What resources should/could we be using?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ff3300"/>
                </a:solidFill>
                <a:uFillTx/>
                <a:latin typeface="Footlight MT Light"/>
                <a:hlinkClick r:id="rId1"/>
              </a:rPr>
              <a:t>BCPS Databases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ff3300"/>
                </a:solidFill>
                <a:uFillTx/>
                <a:latin typeface="Footlight MT Light"/>
                <a:hlinkClick r:id="rId2"/>
              </a:rPr>
              <a:t>Library WIKI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800600" y="1752480"/>
            <a:ext cx="2895480" cy="2239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21:23:11Z</dcterms:created>
  <dc:creator>BCPS</dc:creator>
  <dc:description/>
  <dc:language>en-US</dc:language>
  <cp:lastModifiedBy>BCPS</cp:lastModifiedBy>
  <dcterms:modified xsi:type="dcterms:W3CDTF">2010-09-08T22:21:22Z</dcterms:modified>
  <cp:revision>4</cp:revision>
  <dc:subject/>
  <dc:title>What is Technology Integration?</dc:title>
</cp:coreProperties>
</file>