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1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9D1-48BD-447F-9A42-6ACB008A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065-DAC8-48E2-9271-02EC66DC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CFD-85E8-402E-A503-3C15F7E5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5D7-8386-44D9-A0D8-636A94AC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CAED-25A6-4598-82E0-86333BB1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94EB-3CC3-46FA-9FE9-D26136C3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9509-3359-4B05-A174-C0A0961D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2135-47C1-42B9-B54D-540FA2A2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558D-CF20-43C0-BFBE-96BED9AF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FB4B-2B26-4022-AFFE-AE965AB6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ED96-FFC7-436B-BF82-44AF51C1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195-67F1-40A2-8B73-7ABA2160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F0B5-70E7-40D5-8F57-2CD7C4BC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20C7-1478-41AA-9C42-7647D99E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7A60-AD6E-4A70-9CD3-4E134D69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7A98-4808-4C5C-B50A-0467B21E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7C66-9D16-4A6F-B16E-47E4DC8A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5E9-9244-4321-BC28-4EA5FD0A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F6D-D77A-4466-9802-C2A6C738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29A-64AB-4B43-B4D1-4C8FC5CD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7AA-65A1-4546-8529-17CB1E27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7722-D85E-49FB-8728-2682DA3C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5DE-7819-42FF-B9AB-4C2AF3C6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984-2CAA-4688-BE35-0D65075C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FFC9-6108-4B5C-AD95-A14C46C20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DFA5-8DF9-41AD-ACCD-E2FD3C23EC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s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t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w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c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2 letters that make 1 soun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= di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 ch sh t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048120"/>
            <a:ext cx="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1825920" cy="1792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52480" y="3505320"/>
            <a:ext cx="2133720" cy="167616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" action="ppaction://hlinkshowjump?jump=lastslide"/>
          </p:cNvPr>
          <p:cNvSpPr/>
          <p:nvPr/>
        </p:nvSpPr>
        <p:spPr>
          <a:xfrm>
            <a:off x="1905120" y="3505320"/>
            <a:ext cx="1500120" cy="1600200"/>
          </a:xfrm>
          <a:custGeom>
            <a:avLst/>
            <a:gdLst>
              <a:gd name="textAreaLeft" fmla="*/ 97200 w 1500120"/>
              <a:gd name="textAreaRight" fmla="*/ 1402920 w 1500120"/>
              <a:gd name="textAreaTop" fmla="*/ 97200 h 1600200"/>
              <a:gd name="textAreaBottom" fmla="*/ 1503000 h 1600200"/>
            </a:gdLst>
            <a:ahLst/>
            <a:rect l="textAreaLeft" t="textAreaTop" r="textAreaRight" b="textAreaBottom"/>
            <a:pathLst>
              <a:path w="21600" h="23041">
                <a:moveTo>
                  <a:pt x="0" y="0"/>
                </a:moveTo>
                <a:lnTo>
                  <a:pt x="21600" y="0"/>
                </a:lnTo>
                <a:lnTo>
                  <a:pt x="21600" y="23041"/>
                </a:lnTo>
                <a:lnTo>
                  <a:pt x="0" y="23041"/>
                </a:lnTo>
                <a:close/>
              </a:path>
              <a:path fill="lightenLess" w="21600" h="230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1">
                <a:moveTo>
                  <a:pt x="21600" y="0"/>
                </a:moveTo>
                <a:lnTo>
                  <a:pt x="21600" y="23041"/>
                </a:lnTo>
                <a:lnTo>
                  <a:pt x="20200" y="21641"/>
                </a:lnTo>
                <a:lnTo>
                  <a:pt x="20200" y="1400"/>
                </a:lnTo>
                <a:close/>
              </a:path>
              <a:path fill="darkenLess" w="21600" h="23041">
                <a:moveTo>
                  <a:pt x="21600" y="23041"/>
                </a:moveTo>
                <a:lnTo>
                  <a:pt x="0" y="23041"/>
                </a:lnTo>
                <a:lnTo>
                  <a:pt x="1400" y="21641"/>
                </a:lnTo>
                <a:lnTo>
                  <a:pt x="20200" y="21641"/>
                </a:lnTo>
                <a:close/>
              </a:path>
              <a:path fill="lighten" w="21600" h="23041">
                <a:moveTo>
                  <a:pt x="0" y="230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5486400" y="3581280"/>
            <a:ext cx="1676520" cy="1600200"/>
          </a:xfrm>
          <a:custGeom>
            <a:avLst/>
            <a:gdLst>
              <a:gd name="textAreaLeft" fmla="*/ 103680 w 1676520"/>
              <a:gd name="textAreaRight" fmla="*/ 1572840 w 167652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584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739152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724280" y="3733920"/>
            <a:ext cx="1974960" cy="1698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6553080" y="3733920"/>
            <a:ext cx="91440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143000" y="3514680"/>
            <a:ext cx="2514600" cy="186696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lastslide"/>
          </p:cNvPr>
          <p:cNvSpPr/>
          <p:nvPr/>
        </p:nvSpPr>
        <p:spPr>
          <a:xfrm>
            <a:off x="1066680" y="358128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4800600" y="3657600"/>
            <a:ext cx="1828800" cy="1600200"/>
          </a:xfrm>
          <a:custGeom>
            <a:avLst/>
            <a:gdLst>
              <a:gd name="textAreaLeft" fmla="*/ 103680 w 1828800"/>
              <a:gd name="textAreaRight" fmla="*/ 1725120 w 18288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4685" h="21600">
                <a:moveTo>
                  <a:pt x="0" y="0"/>
                </a:moveTo>
                <a:lnTo>
                  <a:pt x="24685" y="0"/>
                </a:lnTo>
                <a:lnTo>
                  <a:pt x="24685" y="21600"/>
                </a:lnTo>
                <a:lnTo>
                  <a:pt x="0" y="21600"/>
                </a:lnTo>
                <a:close/>
              </a:path>
              <a:path fill="lightenLess" w="24685" h="21600">
                <a:moveTo>
                  <a:pt x="0" y="0"/>
                </a:moveTo>
                <a:lnTo>
                  <a:pt x="24685" y="0"/>
                </a:lnTo>
                <a:lnTo>
                  <a:pt x="23285" y="1400"/>
                </a:lnTo>
                <a:lnTo>
                  <a:pt x="1400" y="1400"/>
                </a:lnTo>
                <a:close/>
              </a:path>
              <a:path fill="darken" w="24685" h="21600">
                <a:moveTo>
                  <a:pt x="24685" y="0"/>
                </a:moveTo>
                <a:lnTo>
                  <a:pt x="24685" y="21600"/>
                </a:lnTo>
                <a:lnTo>
                  <a:pt x="23285" y="20200"/>
                </a:lnTo>
                <a:lnTo>
                  <a:pt x="23285" y="1400"/>
                </a:lnTo>
                <a:close/>
              </a:path>
              <a:path fill="darkenLess" w="24685" h="21600">
                <a:moveTo>
                  <a:pt x="24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5" y="20200"/>
                </a:lnTo>
                <a:close/>
              </a:path>
              <a:path fill="lighten" w="24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584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746748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You’re Do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584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ry Again Please.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on the arrow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 flipH="1">
            <a:off x="3809520" y="3505320"/>
            <a:ext cx="2057400" cy="209556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4114800" y="3505320"/>
            <a:ext cx="1447920" cy="19047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904760"/>
              <a:gd name="textAreaBottom" fmla="*/ 1811160 h 1904760"/>
            </a:gdLst>
            <a:ahLst/>
            <a:rect l="textAreaLeft" t="textAreaTop" r="textAreaRight" b="textAreaBottom"/>
            <a:pathLst>
              <a:path w="21600" h="28413">
                <a:moveTo>
                  <a:pt x="0" y="0"/>
                </a:moveTo>
                <a:lnTo>
                  <a:pt x="21600" y="0"/>
                </a:lnTo>
                <a:lnTo>
                  <a:pt x="21600" y="28413"/>
                </a:lnTo>
                <a:lnTo>
                  <a:pt x="0" y="28413"/>
                </a:lnTo>
                <a:close/>
              </a:path>
              <a:path fill="lightenLess" w="21600" h="28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13">
                <a:moveTo>
                  <a:pt x="21600" y="0"/>
                </a:moveTo>
                <a:lnTo>
                  <a:pt x="21600" y="28413"/>
                </a:lnTo>
                <a:lnTo>
                  <a:pt x="20200" y="27013"/>
                </a:lnTo>
                <a:lnTo>
                  <a:pt x="20200" y="1400"/>
                </a:lnTo>
                <a:close/>
              </a:path>
              <a:path fill="darkenLess" w="21600" h="28413">
                <a:moveTo>
                  <a:pt x="21600" y="28413"/>
                </a:moveTo>
                <a:lnTo>
                  <a:pt x="0" y="28413"/>
                </a:lnTo>
                <a:lnTo>
                  <a:pt x="1400" y="27013"/>
                </a:lnTo>
                <a:lnTo>
                  <a:pt x="20200" y="27013"/>
                </a:lnTo>
                <a:close/>
              </a:path>
              <a:path fill="lighten" w="21600" h="28413">
                <a:moveTo>
                  <a:pt x="0" y="28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1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wh 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1486080" cy="1506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1897200" cy="93996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523880" y="3505320"/>
            <a:ext cx="1447920" cy="14475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lastslide"/>
          </p:cNvPr>
          <p:cNvSpPr/>
          <p:nvPr/>
        </p:nvSpPr>
        <p:spPr>
          <a:xfrm>
            <a:off x="5257800" y="3657600"/>
            <a:ext cx="1676520" cy="1295280"/>
          </a:xfrm>
          <a:custGeom>
            <a:avLst/>
            <a:gdLst>
              <a:gd name="textAreaLeft" fmla="*/ 83880 w 1676520"/>
              <a:gd name="textAreaRight" fmla="*/ 1592640 w 16765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7956" h="21600">
                <a:moveTo>
                  <a:pt x="0" y="0"/>
                </a:moveTo>
                <a:lnTo>
                  <a:pt x="27956" y="0"/>
                </a:lnTo>
                <a:lnTo>
                  <a:pt x="27956" y="21600"/>
                </a:lnTo>
                <a:lnTo>
                  <a:pt x="0" y="21600"/>
                </a:lnTo>
                <a:close/>
              </a:path>
              <a:path fill="lightenLess" w="27956" h="21600">
                <a:moveTo>
                  <a:pt x="0" y="0"/>
                </a:moveTo>
                <a:lnTo>
                  <a:pt x="27956" y="0"/>
                </a:lnTo>
                <a:lnTo>
                  <a:pt x="26556" y="1400"/>
                </a:lnTo>
                <a:lnTo>
                  <a:pt x="1400" y="1400"/>
                </a:lnTo>
                <a:close/>
              </a:path>
              <a:path fill="darken" w="27956" h="21600">
                <a:moveTo>
                  <a:pt x="27956" y="0"/>
                </a:moveTo>
                <a:lnTo>
                  <a:pt x="27956" y="21600"/>
                </a:lnTo>
                <a:lnTo>
                  <a:pt x="26556" y="20200"/>
                </a:lnTo>
                <a:lnTo>
                  <a:pt x="26556" y="1400"/>
                </a:lnTo>
                <a:close/>
              </a:path>
              <a:path fill="darkenLess" w="27956" h="21600">
                <a:moveTo>
                  <a:pt x="27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56" y="20200"/>
                </a:lnTo>
                <a:close/>
              </a:path>
              <a:path fill="lighten" w="27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4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1733400" cy="1820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V="1">
            <a:off x="2362320" y="4571640"/>
            <a:ext cx="380880" cy="1066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057400" y="3429000"/>
            <a:ext cx="1752480" cy="1600200"/>
          </a:xfrm>
          <a:custGeom>
            <a:avLst/>
            <a:gdLst>
              <a:gd name="textAreaLeft" fmla="*/ 103680 w 1752480"/>
              <a:gd name="textAreaRight" fmla="*/ 1648800 w 17524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3655" h="21600">
                <a:moveTo>
                  <a:pt x="0" y="0"/>
                </a:moveTo>
                <a:lnTo>
                  <a:pt x="23655" y="0"/>
                </a:lnTo>
                <a:lnTo>
                  <a:pt x="23655" y="21600"/>
                </a:lnTo>
                <a:lnTo>
                  <a:pt x="0" y="21600"/>
                </a:lnTo>
                <a:close/>
              </a:path>
              <a:path fill="lightenLess" w="23655" h="21600">
                <a:moveTo>
                  <a:pt x="0" y="0"/>
                </a:moveTo>
                <a:lnTo>
                  <a:pt x="23655" y="0"/>
                </a:lnTo>
                <a:lnTo>
                  <a:pt x="22255" y="1400"/>
                </a:lnTo>
                <a:lnTo>
                  <a:pt x="1400" y="1400"/>
                </a:lnTo>
                <a:close/>
              </a:path>
              <a:path fill="darken" w="23655" h="21600">
                <a:moveTo>
                  <a:pt x="23655" y="0"/>
                </a:moveTo>
                <a:lnTo>
                  <a:pt x="23655" y="21600"/>
                </a:lnTo>
                <a:lnTo>
                  <a:pt x="22255" y="20200"/>
                </a:lnTo>
                <a:lnTo>
                  <a:pt x="22255" y="1400"/>
                </a:lnTo>
                <a:close/>
              </a:path>
              <a:path fill="darkenLess" w="23655" h="21600">
                <a:moveTo>
                  <a:pt x="23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5" y="20200"/>
                </a:lnTo>
                <a:close/>
              </a:path>
              <a:path fill="lighten" w="23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lastslide"/>
          </p:cNvPr>
          <p:cNvSpPr/>
          <p:nvPr/>
        </p:nvSpPr>
        <p:spPr>
          <a:xfrm>
            <a:off x="5486400" y="3581280"/>
            <a:ext cx="1500120" cy="1600200"/>
          </a:xfrm>
          <a:custGeom>
            <a:avLst/>
            <a:gdLst>
              <a:gd name="textAreaLeft" fmla="*/ 97200 w 1500120"/>
              <a:gd name="textAreaRight" fmla="*/ 1402920 w 1500120"/>
              <a:gd name="textAreaTop" fmla="*/ 97200 h 1600200"/>
              <a:gd name="textAreaBottom" fmla="*/ 1503000 h 1600200"/>
            </a:gdLst>
            <a:ahLst/>
            <a:rect l="textAreaLeft" t="textAreaTop" r="textAreaRight" b="textAreaBottom"/>
            <a:pathLst>
              <a:path w="21600" h="23041">
                <a:moveTo>
                  <a:pt x="0" y="0"/>
                </a:moveTo>
                <a:lnTo>
                  <a:pt x="21600" y="0"/>
                </a:lnTo>
                <a:lnTo>
                  <a:pt x="21600" y="23041"/>
                </a:lnTo>
                <a:lnTo>
                  <a:pt x="0" y="23041"/>
                </a:lnTo>
                <a:close/>
              </a:path>
              <a:path fill="lightenLess" w="21600" h="230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1">
                <a:moveTo>
                  <a:pt x="21600" y="0"/>
                </a:moveTo>
                <a:lnTo>
                  <a:pt x="21600" y="23041"/>
                </a:lnTo>
                <a:lnTo>
                  <a:pt x="20200" y="21641"/>
                </a:lnTo>
                <a:lnTo>
                  <a:pt x="20200" y="1400"/>
                </a:lnTo>
                <a:close/>
              </a:path>
              <a:path fill="darkenLess" w="21600" h="23041">
                <a:moveTo>
                  <a:pt x="21600" y="23041"/>
                </a:moveTo>
                <a:lnTo>
                  <a:pt x="0" y="23041"/>
                </a:lnTo>
                <a:lnTo>
                  <a:pt x="1400" y="21641"/>
                </a:lnTo>
                <a:lnTo>
                  <a:pt x="20200" y="21641"/>
                </a:lnTo>
                <a:close/>
              </a:path>
              <a:path fill="lighten" w="21600" h="23041">
                <a:moveTo>
                  <a:pt x="0" y="230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584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7391520" y="57150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4:23:30Z</dcterms:created>
  <dc:creator>BCPS</dc:creator>
  <dc:description/>
  <dc:language>en-US</dc:language>
  <cp:lastModifiedBy>Beth Ann</cp:lastModifiedBy>
  <dcterms:modified xsi:type="dcterms:W3CDTF">2009-04-13T01:58:42Z</dcterms:modified>
  <cp:revision>10</cp:revision>
  <dc:subject/>
  <dc:title>2 letters that make 1 sound</dc:title>
</cp:coreProperties>
</file>