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1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9B71-FF75-4B83-BD80-D1C950D2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1728-9E74-46A8-A55D-0A8CB91C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FE2-DF62-4AAC-8DFF-D9478197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8CAA-430D-49E4-847F-80D37EBA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D7BA-2A32-4D03-BC59-E647754D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B1BA-BD3A-413F-A606-0898CA47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18FF-F30A-490F-8609-41A9D587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9303-6EAF-4B64-9FF8-3A39F7ED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329F-8563-4556-A924-3C19B30B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64B3-EC9D-4916-B4A8-309F771A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F70F-940F-497E-9741-3B337FE9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067B-83C0-4AE9-883E-D181A742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0E18-D669-4A5E-8414-0523F2CF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AE1E-D8B4-42DF-8435-E6CC5C48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5BCD-282D-402A-80D9-80DFEBEC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9509-E3BF-4201-935F-3DAAA777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7E71-47F5-461F-ACE6-B2F9DAD8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778-8928-43DE-A3D8-3BAAB77B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1D5-4D56-494E-A4D6-11D4D3BF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A87A-D4CA-41A1-8BE6-0B6DE4AC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769-E0E9-432B-8301-EDBB765A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FE9-62BA-4E72-A9FB-780715CB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B66-511A-4FDD-9A2B-48CB6A96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39A7-ACE3-4809-B00A-9E98A5F0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01E9-7558-4FA7-B1AF-063BEFBDC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6967-2BF0-49D9-A4E4-794BCB5D7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s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t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w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c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2 letters that make 1 sound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= di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 ch sh t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048120"/>
            <a:ext cx="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1825920" cy="17920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752480" y="3505320"/>
            <a:ext cx="2133720" cy="1676160"/>
          </a:xfrm>
          <a:prstGeom prst="rect">
            <a:avLst/>
          </a:prstGeom>
          <a:ln w="0">
            <a:noFill/>
          </a:ln>
        </p:spPr>
      </p:pic>
      <p:sp>
        <p:nvSpPr>
          <p:cNvPr id="254" name="">
            <a:hlinkClick r:id="" action="ppaction://hlinkshowjump?jump=lastslide"/>
          </p:cNvPr>
          <p:cNvSpPr/>
          <p:nvPr/>
        </p:nvSpPr>
        <p:spPr>
          <a:xfrm>
            <a:off x="1905120" y="3505320"/>
            <a:ext cx="1500120" cy="1600200"/>
          </a:xfrm>
          <a:custGeom>
            <a:avLst/>
            <a:gdLst>
              <a:gd name="textAreaLeft" fmla="*/ 97200 w 1500120"/>
              <a:gd name="textAreaRight" fmla="*/ 1402920 w 1500120"/>
              <a:gd name="textAreaTop" fmla="*/ 97200 h 1600200"/>
              <a:gd name="textAreaBottom" fmla="*/ 1503000 h 1600200"/>
            </a:gdLst>
            <a:ahLst/>
            <a:rect l="textAreaLeft" t="textAreaTop" r="textAreaRight" b="textAreaBottom"/>
            <a:pathLst>
              <a:path w="21600" h="23041">
                <a:moveTo>
                  <a:pt x="0" y="0"/>
                </a:moveTo>
                <a:lnTo>
                  <a:pt x="21600" y="0"/>
                </a:lnTo>
                <a:lnTo>
                  <a:pt x="21600" y="23041"/>
                </a:lnTo>
                <a:lnTo>
                  <a:pt x="0" y="23041"/>
                </a:lnTo>
                <a:close/>
              </a:path>
              <a:path fill="lightenLess" w="21600" h="230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1">
                <a:moveTo>
                  <a:pt x="21600" y="0"/>
                </a:moveTo>
                <a:lnTo>
                  <a:pt x="21600" y="23041"/>
                </a:lnTo>
                <a:lnTo>
                  <a:pt x="20200" y="21641"/>
                </a:lnTo>
                <a:lnTo>
                  <a:pt x="20200" y="1400"/>
                </a:lnTo>
                <a:close/>
              </a:path>
              <a:path fill="darkenLess" w="21600" h="23041">
                <a:moveTo>
                  <a:pt x="21600" y="23041"/>
                </a:moveTo>
                <a:lnTo>
                  <a:pt x="0" y="23041"/>
                </a:lnTo>
                <a:lnTo>
                  <a:pt x="1400" y="21641"/>
                </a:lnTo>
                <a:lnTo>
                  <a:pt x="20200" y="21641"/>
                </a:lnTo>
                <a:close/>
              </a:path>
              <a:path fill="lighten" w="21600" h="23041">
                <a:moveTo>
                  <a:pt x="0" y="230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5486400" y="3581280"/>
            <a:ext cx="1676520" cy="1600200"/>
          </a:xfrm>
          <a:custGeom>
            <a:avLst/>
            <a:gdLst>
              <a:gd name="textAreaLeft" fmla="*/ 103680 w 1676520"/>
              <a:gd name="textAreaRight" fmla="*/ 1572840 w 167652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2630" h="21600">
                <a:moveTo>
                  <a:pt x="0" y="0"/>
                </a:moveTo>
                <a:lnTo>
                  <a:pt x="22630" y="0"/>
                </a:lnTo>
                <a:lnTo>
                  <a:pt x="22630" y="21600"/>
                </a:lnTo>
                <a:lnTo>
                  <a:pt x="0" y="21600"/>
                </a:lnTo>
                <a:close/>
              </a:path>
              <a:path fill="lightenLess" w="22630" h="21600">
                <a:moveTo>
                  <a:pt x="0" y="0"/>
                </a:moveTo>
                <a:lnTo>
                  <a:pt x="22630" y="0"/>
                </a:lnTo>
                <a:lnTo>
                  <a:pt x="21230" y="1400"/>
                </a:lnTo>
                <a:lnTo>
                  <a:pt x="1400" y="1400"/>
                </a:lnTo>
                <a:close/>
              </a:path>
              <a:path fill="darken" w="22630" h="21600">
                <a:moveTo>
                  <a:pt x="22630" y="0"/>
                </a:moveTo>
                <a:lnTo>
                  <a:pt x="22630" y="21600"/>
                </a:lnTo>
                <a:lnTo>
                  <a:pt x="21230" y="20200"/>
                </a:lnTo>
                <a:lnTo>
                  <a:pt x="21230" y="1400"/>
                </a:lnTo>
                <a:close/>
              </a:path>
              <a:path fill="darkenLess" w="22630" h="21600">
                <a:moveTo>
                  <a:pt x="22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0" y="20200"/>
                </a:lnTo>
                <a:close/>
              </a:path>
              <a:path fill="lighten" w="22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75438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584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739152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724280" y="3733920"/>
            <a:ext cx="1974960" cy="1698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 flipH="1">
            <a:off x="6553080" y="3733920"/>
            <a:ext cx="91440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143000" y="3514680"/>
            <a:ext cx="2514600" cy="186696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lastslide"/>
          </p:cNvPr>
          <p:cNvSpPr/>
          <p:nvPr/>
        </p:nvSpPr>
        <p:spPr>
          <a:xfrm>
            <a:off x="1066680" y="3581280"/>
            <a:ext cx="2514600" cy="1828800"/>
          </a:xfrm>
          <a:custGeom>
            <a:avLst/>
            <a:gdLst>
              <a:gd name="textAreaLeft" fmla="*/ 118440 w 2514600"/>
              <a:gd name="textAreaRight" fmla="*/ 2396160 w 25146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9698" h="21600">
                <a:moveTo>
                  <a:pt x="0" y="0"/>
                </a:moveTo>
                <a:lnTo>
                  <a:pt x="29698" y="0"/>
                </a:lnTo>
                <a:lnTo>
                  <a:pt x="29698" y="21600"/>
                </a:lnTo>
                <a:lnTo>
                  <a:pt x="0" y="21600"/>
                </a:lnTo>
                <a:close/>
              </a:path>
              <a:path fill="lightenLess" w="29698" h="21600">
                <a:moveTo>
                  <a:pt x="0" y="0"/>
                </a:moveTo>
                <a:lnTo>
                  <a:pt x="29698" y="0"/>
                </a:lnTo>
                <a:lnTo>
                  <a:pt x="28298" y="1400"/>
                </a:lnTo>
                <a:lnTo>
                  <a:pt x="1400" y="1400"/>
                </a:lnTo>
                <a:close/>
              </a:path>
              <a:path fill="darken" w="29698" h="21600">
                <a:moveTo>
                  <a:pt x="29698" y="0"/>
                </a:moveTo>
                <a:lnTo>
                  <a:pt x="29698" y="21600"/>
                </a:lnTo>
                <a:lnTo>
                  <a:pt x="28298" y="20200"/>
                </a:lnTo>
                <a:lnTo>
                  <a:pt x="28298" y="1400"/>
                </a:lnTo>
                <a:close/>
              </a:path>
              <a:path fill="darkenLess" w="29698" h="21600">
                <a:moveTo>
                  <a:pt x="29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8" y="20200"/>
                </a:lnTo>
                <a:close/>
              </a:path>
              <a:path fill="lighten" w="29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4800600" y="3657600"/>
            <a:ext cx="1828800" cy="1600200"/>
          </a:xfrm>
          <a:custGeom>
            <a:avLst/>
            <a:gdLst>
              <a:gd name="textAreaLeft" fmla="*/ 103680 w 1828800"/>
              <a:gd name="textAreaRight" fmla="*/ 1725120 w 18288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4685" h="21600">
                <a:moveTo>
                  <a:pt x="0" y="0"/>
                </a:moveTo>
                <a:lnTo>
                  <a:pt x="24685" y="0"/>
                </a:lnTo>
                <a:lnTo>
                  <a:pt x="24685" y="21600"/>
                </a:lnTo>
                <a:lnTo>
                  <a:pt x="0" y="21600"/>
                </a:lnTo>
                <a:close/>
              </a:path>
              <a:path fill="lightenLess" w="24685" h="21600">
                <a:moveTo>
                  <a:pt x="0" y="0"/>
                </a:moveTo>
                <a:lnTo>
                  <a:pt x="24685" y="0"/>
                </a:lnTo>
                <a:lnTo>
                  <a:pt x="23285" y="1400"/>
                </a:lnTo>
                <a:lnTo>
                  <a:pt x="1400" y="1400"/>
                </a:lnTo>
                <a:close/>
              </a:path>
              <a:path fill="darken" w="24685" h="21600">
                <a:moveTo>
                  <a:pt x="24685" y="0"/>
                </a:moveTo>
                <a:lnTo>
                  <a:pt x="24685" y="21600"/>
                </a:lnTo>
                <a:lnTo>
                  <a:pt x="23285" y="20200"/>
                </a:lnTo>
                <a:lnTo>
                  <a:pt x="23285" y="1400"/>
                </a:lnTo>
                <a:close/>
              </a:path>
              <a:path fill="darkenLess" w="24685" h="21600">
                <a:moveTo>
                  <a:pt x="24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5" y="20200"/>
                </a:lnTo>
                <a:close/>
              </a:path>
              <a:path fill="lighten" w="24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584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746748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You’re Do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584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ry Again Please.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on the arrow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 flipH="1">
            <a:off x="3809520" y="3505320"/>
            <a:ext cx="2057400" cy="209556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4114800" y="3505320"/>
            <a:ext cx="1447920" cy="190476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904760"/>
              <a:gd name="textAreaBottom" fmla="*/ 1811160 h 1904760"/>
            </a:gdLst>
            <a:ahLst/>
            <a:rect l="textAreaLeft" t="textAreaTop" r="textAreaRight" b="textAreaBottom"/>
            <a:pathLst>
              <a:path w="21600" h="28413">
                <a:moveTo>
                  <a:pt x="0" y="0"/>
                </a:moveTo>
                <a:lnTo>
                  <a:pt x="21600" y="0"/>
                </a:lnTo>
                <a:lnTo>
                  <a:pt x="21600" y="28413"/>
                </a:lnTo>
                <a:lnTo>
                  <a:pt x="0" y="28413"/>
                </a:lnTo>
                <a:close/>
              </a:path>
              <a:path fill="lightenLess" w="21600" h="28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13">
                <a:moveTo>
                  <a:pt x="21600" y="0"/>
                </a:moveTo>
                <a:lnTo>
                  <a:pt x="21600" y="28413"/>
                </a:lnTo>
                <a:lnTo>
                  <a:pt x="20200" y="27013"/>
                </a:lnTo>
                <a:lnTo>
                  <a:pt x="20200" y="1400"/>
                </a:lnTo>
                <a:close/>
              </a:path>
              <a:path fill="darkenLess" w="21600" h="28413">
                <a:moveTo>
                  <a:pt x="21600" y="28413"/>
                </a:moveTo>
                <a:lnTo>
                  <a:pt x="0" y="28413"/>
                </a:lnTo>
                <a:lnTo>
                  <a:pt x="1400" y="27013"/>
                </a:lnTo>
                <a:lnTo>
                  <a:pt x="20200" y="27013"/>
                </a:lnTo>
                <a:close/>
              </a:path>
              <a:path fill="lighten" w="21600" h="28413">
                <a:moveTo>
                  <a:pt x="0" y="28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1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wh 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1486080" cy="1506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181480" y="3657600"/>
            <a:ext cx="1897200" cy="93996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1523880" y="3505320"/>
            <a:ext cx="1447920" cy="144756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5" h="21600">
                <a:moveTo>
                  <a:pt x="0" y="0"/>
                </a:moveTo>
                <a:lnTo>
                  <a:pt x="21605" y="0"/>
                </a:lnTo>
                <a:lnTo>
                  <a:pt x="21605" y="21600"/>
                </a:lnTo>
                <a:lnTo>
                  <a:pt x="0" y="21600"/>
                </a:lnTo>
                <a:close/>
              </a:path>
              <a:path fill="lightenLess" w="21605" h="21600">
                <a:moveTo>
                  <a:pt x="0" y="0"/>
                </a:moveTo>
                <a:lnTo>
                  <a:pt x="21605" y="0"/>
                </a:lnTo>
                <a:lnTo>
                  <a:pt x="20205" y="1400"/>
                </a:lnTo>
                <a:lnTo>
                  <a:pt x="1400" y="1400"/>
                </a:lnTo>
                <a:close/>
              </a:path>
              <a:path fill="darken" w="21605" h="21600">
                <a:moveTo>
                  <a:pt x="21605" y="0"/>
                </a:moveTo>
                <a:lnTo>
                  <a:pt x="21605" y="21600"/>
                </a:lnTo>
                <a:lnTo>
                  <a:pt x="20205" y="20200"/>
                </a:lnTo>
                <a:lnTo>
                  <a:pt x="20205" y="1400"/>
                </a:lnTo>
                <a:close/>
              </a:path>
              <a:path fill="darkenLess" w="21605" h="21600">
                <a:moveTo>
                  <a:pt x="21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5" y="20200"/>
                </a:lnTo>
                <a:close/>
              </a:path>
              <a:path fill="lighten" w="21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lastslide"/>
          </p:cNvPr>
          <p:cNvSpPr/>
          <p:nvPr/>
        </p:nvSpPr>
        <p:spPr>
          <a:xfrm>
            <a:off x="5257800" y="3657600"/>
            <a:ext cx="1676520" cy="1295280"/>
          </a:xfrm>
          <a:custGeom>
            <a:avLst/>
            <a:gdLst>
              <a:gd name="textAreaLeft" fmla="*/ 83880 w 1676520"/>
              <a:gd name="textAreaRight" fmla="*/ 1592640 w 16765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7956" h="21600">
                <a:moveTo>
                  <a:pt x="0" y="0"/>
                </a:moveTo>
                <a:lnTo>
                  <a:pt x="27956" y="0"/>
                </a:lnTo>
                <a:lnTo>
                  <a:pt x="27956" y="21600"/>
                </a:lnTo>
                <a:lnTo>
                  <a:pt x="0" y="21600"/>
                </a:lnTo>
                <a:close/>
              </a:path>
              <a:path fill="lightenLess" w="27956" h="21600">
                <a:moveTo>
                  <a:pt x="0" y="0"/>
                </a:moveTo>
                <a:lnTo>
                  <a:pt x="27956" y="0"/>
                </a:lnTo>
                <a:lnTo>
                  <a:pt x="26556" y="1400"/>
                </a:lnTo>
                <a:lnTo>
                  <a:pt x="1400" y="1400"/>
                </a:lnTo>
                <a:close/>
              </a:path>
              <a:path fill="darken" w="27956" h="21600">
                <a:moveTo>
                  <a:pt x="27956" y="0"/>
                </a:moveTo>
                <a:lnTo>
                  <a:pt x="27956" y="21600"/>
                </a:lnTo>
                <a:lnTo>
                  <a:pt x="26556" y="20200"/>
                </a:lnTo>
                <a:lnTo>
                  <a:pt x="26556" y="1400"/>
                </a:lnTo>
                <a:close/>
              </a:path>
              <a:path fill="darkenLess" w="27956" h="21600">
                <a:moveTo>
                  <a:pt x="27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56" y="20200"/>
                </a:lnTo>
                <a:close/>
              </a:path>
              <a:path fill="lighten" w="27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84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1733400" cy="1820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flipV="1">
            <a:off x="2362320" y="4571640"/>
            <a:ext cx="380880" cy="1066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057400" y="3429000"/>
            <a:ext cx="1752480" cy="1600200"/>
          </a:xfrm>
          <a:custGeom>
            <a:avLst/>
            <a:gdLst>
              <a:gd name="textAreaLeft" fmla="*/ 103680 w 1752480"/>
              <a:gd name="textAreaRight" fmla="*/ 1648800 w 17524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3655" h="21600">
                <a:moveTo>
                  <a:pt x="0" y="0"/>
                </a:moveTo>
                <a:lnTo>
                  <a:pt x="23655" y="0"/>
                </a:lnTo>
                <a:lnTo>
                  <a:pt x="23655" y="21600"/>
                </a:lnTo>
                <a:lnTo>
                  <a:pt x="0" y="21600"/>
                </a:lnTo>
                <a:close/>
              </a:path>
              <a:path fill="lightenLess" w="23655" h="21600">
                <a:moveTo>
                  <a:pt x="0" y="0"/>
                </a:moveTo>
                <a:lnTo>
                  <a:pt x="23655" y="0"/>
                </a:lnTo>
                <a:lnTo>
                  <a:pt x="22255" y="1400"/>
                </a:lnTo>
                <a:lnTo>
                  <a:pt x="1400" y="1400"/>
                </a:lnTo>
                <a:close/>
              </a:path>
              <a:path fill="darken" w="23655" h="21600">
                <a:moveTo>
                  <a:pt x="23655" y="0"/>
                </a:moveTo>
                <a:lnTo>
                  <a:pt x="23655" y="21600"/>
                </a:lnTo>
                <a:lnTo>
                  <a:pt x="22255" y="20200"/>
                </a:lnTo>
                <a:lnTo>
                  <a:pt x="22255" y="1400"/>
                </a:lnTo>
                <a:close/>
              </a:path>
              <a:path fill="darkenLess" w="23655" h="21600">
                <a:moveTo>
                  <a:pt x="23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5" y="20200"/>
                </a:lnTo>
                <a:close/>
              </a:path>
              <a:path fill="lighten" w="23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lastslide"/>
          </p:cNvPr>
          <p:cNvSpPr/>
          <p:nvPr/>
        </p:nvSpPr>
        <p:spPr>
          <a:xfrm>
            <a:off x="5486400" y="3581280"/>
            <a:ext cx="1500120" cy="1600200"/>
          </a:xfrm>
          <a:custGeom>
            <a:avLst/>
            <a:gdLst>
              <a:gd name="textAreaLeft" fmla="*/ 97200 w 1500120"/>
              <a:gd name="textAreaRight" fmla="*/ 1402920 w 1500120"/>
              <a:gd name="textAreaTop" fmla="*/ 97200 h 1600200"/>
              <a:gd name="textAreaBottom" fmla="*/ 1503000 h 1600200"/>
            </a:gdLst>
            <a:ahLst/>
            <a:rect l="textAreaLeft" t="textAreaTop" r="textAreaRight" b="textAreaBottom"/>
            <a:pathLst>
              <a:path w="21600" h="23041">
                <a:moveTo>
                  <a:pt x="0" y="0"/>
                </a:moveTo>
                <a:lnTo>
                  <a:pt x="21600" y="0"/>
                </a:lnTo>
                <a:lnTo>
                  <a:pt x="21600" y="23041"/>
                </a:lnTo>
                <a:lnTo>
                  <a:pt x="0" y="23041"/>
                </a:lnTo>
                <a:close/>
              </a:path>
              <a:path fill="lightenLess" w="21600" h="230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1">
                <a:moveTo>
                  <a:pt x="21600" y="0"/>
                </a:moveTo>
                <a:lnTo>
                  <a:pt x="21600" y="23041"/>
                </a:lnTo>
                <a:lnTo>
                  <a:pt x="20200" y="21641"/>
                </a:lnTo>
                <a:lnTo>
                  <a:pt x="20200" y="1400"/>
                </a:lnTo>
                <a:close/>
              </a:path>
              <a:path fill="darkenLess" w="21600" h="23041">
                <a:moveTo>
                  <a:pt x="21600" y="23041"/>
                </a:moveTo>
                <a:lnTo>
                  <a:pt x="0" y="23041"/>
                </a:lnTo>
                <a:lnTo>
                  <a:pt x="1400" y="21641"/>
                </a:lnTo>
                <a:lnTo>
                  <a:pt x="20200" y="21641"/>
                </a:lnTo>
                <a:close/>
              </a:path>
              <a:path fill="lighten" w="21600" h="23041">
                <a:moveTo>
                  <a:pt x="0" y="230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584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7391520" y="57150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4:23:30Z</dcterms:created>
  <dc:creator>BCPS</dc:creator>
  <dc:description/>
  <dc:language>en-US</dc:language>
  <cp:lastModifiedBy>Beth Ann</cp:lastModifiedBy>
  <dcterms:modified xsi:type="dcterms:W3CDTF">2009-04-13T01:58:42Z</dcterms:modified>
  <cp:revision>10</cp:revision>
  <dc:subject/>
  <dc:title>2 letters that make 1 sound</dc:title>
</cp:coreProperties>
</file>