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D90-5A88-4087-AA5D-15A63ABB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A32-5DDD-4112-A952-201176E8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06C-51CC-490D-B4EC-AB685E5D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22F-F149-42C0-9F15-777DC1FB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029E-212C-4C21-B92C-08DDB353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C0F7-6369-4460-9B56-31977FF5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F90-FEEB-4B08-A962-6658D094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58CF-2F8A-4371-BC78-DF3C462F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2FBD-2292-48BD-B49A-9B1BEA50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C35E-1956-42AC-8D97-90A3EF96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E890-0613-447E-BB54-A3EF08E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C61-CC17-4117-8196-06E3AB6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D1CF-34CB-4DE6-8730-D151FBEA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489F-0BD4-49BA-9CB2-9242E3D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7CBE-9351-4FA2-89B9-96BAB7BF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A71E-A15E-40AE-82E6-430849B6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0254-7148-4B93-8C8C-4DAA7BEB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8F4-5981-4D33-932E-C7D3B37F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A8B-9F99-40B4-91E6-2962C833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C56-B5EC-4F9C-ADA2-14F0A5EB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E91-2508-4CE3-85F2-60E0DBD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4F8-1794-48E5-A186-68A3D305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B1F-D05D-40EE-A3B7-A1C68474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7DA-72A9-44B7-AE33-9FFB373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587-2F48-422F-B00E-243C298E1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C634-CFF2-4E67-823B-CCACA9443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s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t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w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c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 letters that make 1 s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= di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 ch sh 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82592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2133720" cy="16761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1905120" y="350532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486400" y="358128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84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39152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6553080" y="3733920"/>
            <a:ext cx="91440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43000" y="3514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1066680" y="35812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84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’re Do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y Again Please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on the arrow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 flipH="1">
            <a:off x="3809520" y="350532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114800" y="3505320"/>
            <a:ext cx="1447920" cy="19047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904760"/>
              <a:gd name="textAreaBottom" fmla="*/ 1811160 h 1904760"/>
            </a:gdLst>
            <a:ahLst/>
            <a:rect l="textAreaLeft" t="textAreaTop" r="textAreaRight" b="textAreaBottom"/>
            <a:pathLst>
              <a:path w="21600" h="28413">
                <a:moveTo>
                  <a:pt x="0" y="0"/>
                </a:moveTo>
                <a:lnTo>
                  <a:pt x="21600" y="0"/>
                </a:lnTo>
                <a:lnTo>
                  <a:pt x="21600" y="28413"/>
                </a:lnTo>
                <a:lnTo>
                  <a:pt x="0" y="28413"/>
                </a:lnTo>
                <a:close/>
              </a:path>
              <a:path fill="lightenLess" w="21600" h="28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13">
                <a:moveTo>
                  <a:pt x="21600" y="0"/>
                </a:moveTo>
                <a:lnTo>
                  <a:pt x="21600" y="28413"/>
                </a:lnTo>
                <a:lnTo>
                  <a:pt x="20200" y="27013"/>
                </a:lnTo>
                <a:lnTo>
                  <a:pt x="20200" y="1400"/>
                </a:lnTo>
                <a:close/>
              </a:path>
              <a:path fill="darkenLess" w="21600" h="28413">
                <a:moveTo>
                  <a:pt x="21600" y="28413"/>
                </a:moveTo>
                <a:lnTo>
                  <a:pt x="0" y="28413"/>
                </a:lnTo>
                <a:lnTo>
                  <a:pt x="1400" y="27013"/>
                </a:lnTo>
                <a:lnTo>
                  <a:pt x="20200" y="27013"/>
                </a:lnTo>
                <a:close/>
              </a:path>
              <a:path fill="lighten" w="21600" h="28413">
                <a:moveTo>
                  <a:pt x="0" y="28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wh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1897200" cy="93996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523880" y="35053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5257800" y="3657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733400" cy="18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362320" y="4571640"/>
            <a:ext cx="38088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057400" y="3429000"/>
            <a:ext cx="1752480" cy="1600200"/>
          </a:xfrm>
          <a:custGeom>
            <a:avLst/>
            <a:gdLst>
              <a:gd name="textAreaLeft" fmla="*/ 103680 w 1752480"/>
              <a:gd name="textAreaRight" fmla="*/ 1648800 w 1752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255" y="1400"/>
                </a:lnTo>
                <a:lnTo>
                  <a:pt x="1400" y="140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255" y="20200"/>
                </a:lnTo>
                <a:lnTo>
                  <a:pt x="22255" y="140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5" y="2020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5486400" y="358128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7150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3:30Z</dcterms:created>
  <dc:creator>BCPS</dc:creator>
  <dc:description/>
  <dc:language>en-US</dc:language>
  <cp:lastModifiedBy>Beth Ann</cp:lastModifiedBy>
  <dcterms:modified xsi:type="dcterms:W3CDTF">2009-04-13T01:58:42Z</dcterms:modified>
  <cp:revision>10</cp:revision>
  <dc:subject/>
  <dc:title>2 letters that make 1 sound</dc:title>
</cp:coreProperties>
</file>