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1C8-A7C4-4219-8BF6-5F5FF912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71B-0A8A-45D2-9A23-50328454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9EB-B061-48D1-9988-AB82F06B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C4B7-188C-484B-B32C-2F61936A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53E0-1AF1-4394-A490-981F5A0C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A678-E67D-41DD-A98E-6D6D2F2F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4775-F94D-4610-9AE8-CB149A0D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4BBD-9C12-474E-90E4-C215F2B1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67C2-96C5-40FC-B71C-EA08E706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1A0B-621D-4D9F-B0BB-CEFFC1BE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A66F-9014-47B0-B05E-DF7EE248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A8F-A16E-42C1-BD21-A69F8D62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F161-3E00-4836-B35A-F615CB37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6714-3A44-44A3-8B22-754FAB49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312E-7B09-4DED-9A5A-A460B052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DA7F-8D49-4A8C-8361-EC7E4690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8901-D3BA-44C4-8D40-54C45F74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DB0F4-4D17-4EA4-9BF1-B165AD2B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EB139-9941-478D-8B9E-E9D44BC5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D48C-9A9B-429F-B660-6A9EEA96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D104-5229-486B-B782-9BA43E5C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5A2FD-47E6-42AB-BEAA-21EB46D8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FCD-4CF3-427A-A37D-C62D1DF7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9AC7-CF61-4E6F-B9BE-471D121D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6BA2-84F3-4159-943A-C0E6B034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29FAE-9970-41DA-B4EE-5FCB8AA9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E48B-FE2F-4949-BD66-9E092026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E5248-CEF5-4844-AF74-E6EC57D7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C0F6-A6F2-48F3-8DCF-7411350C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9A08F-240C-4C23-8825-ED25163B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74E85-D48F-4F07-8187-B85F37B0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743F8-2B25-4B1A-9F81-9FDACB68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2A0B0-11A6-4747-B873-0FE56739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97A-5CEA-4AF4-B910-90BD39A4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672AA-B72C-4E32-BE5E-35A985E2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F6C31-DB63-443C-AA24-09B31891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D1DA9-106A-49B2-9CCA-C465A706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BD465-33BB-4947-9F11-4DE3E314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CAD38-A030-460E-97E2-5B3A597A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5A748-41D6-474E-8D63-8BFDA7F6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361FA-1A6E-4241-92AF-84744403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5BBA0-FFB7-4549-BEE0-BA5E8EAA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96A92-D674-45D7-B121-EC0EED5E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280-1E7D-475F-B16A-6A134064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434-B199-46DC-BD83-52F955D8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F5A-8659-47E2-A53A-CA04AE14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C3F-7C82-407B-A938-96828211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5CF-73B1-4CED-BF75-F304FDF1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151B-5548-4F84-B92A-08A9B786A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FAD6-4BE0-4A93-BB36-BB4620C97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9020-882C-42A3-A867-418C04114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E9D3-39A1-4A3D-A36F-AFE2B52736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139920" cy="3276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447920" y="914400"/>
            <a:ext cx="66294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Vowels in Bloom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8006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167652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hic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ea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ea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Comic Sans MS"/>
              </a:rPr>
              <a:t>Direc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if the word has a long vowel or short vowel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t has a long sound choose the rule that it 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 a tree with your correct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ry it……………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5105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di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81080" y="1949400"/>
            <a:ext cx="525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4267080" y="502920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10800"/>
                </a:moveTo>
                <a:lnTo>
                  <a:pt x="20756" y="3794"/>
                </a:lnTo>
                <a:lnTo>
                  <a:pt x="20756" y="17806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04920" y="4267080"/>
            <a:ext cx="34290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Wow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I can see your growth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lc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4267080"/>
            <a:ext cx="34290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're really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BLOOMING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7680600">
            <a:off x="3581280" y="14475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200400" y="2286000"/>
            <a:ext cx="403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pr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7680600">
            <a:off x="3581280" y="14475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 rot="13919400">
            <a:off x="6018840" y="1523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8644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1781280" y="457200"/>
            <a:ext cx="5914800" cy="61722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rot="13919400">
            <a:off x="5866560" y="1676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rot="7680600">
            <a:off x="4114080" y="14472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905120" y="3200400"/>
            <a:ext cx="5486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SCORE 2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 did 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 have really blosom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1" name=""/>
          <p:cNvSpPr/>
          <p:nvPr/>
        </p:nvSpPr>
        <p:spPr>
          <a:xfrm flipH="1" flipV="1" rot="13918800">
            <a:off x="6158520" y="20077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 rot="13918800">
            <a:off x="6450480" y="23396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7680600">
            <a:off x="3504960" y="1752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7680600">
            <a:off x="2895480" y="1981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7680600">
            <a:off x="2895480" y="26668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7680600">
            <a:off x="3656880" y="28951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7680600">
            <a:off x="3504960" y="33526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5350200">
            <a:off x="4685760" y="20188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5350200">
            <a:off x="4533480" y="2628720"/>
            <a:ext cx="30456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5350200">
            <a:off x="4381200" y="323820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7680600">
            <a:off x="4419360" y="9903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 rot="13919400">
            <a:off x="5561640" y="2361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 rot="13919400">
            <a:off x="4952160" y="2895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 rot="13919400">
            <a:off x="5409360" y="3124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 rot="13919400">
            <a:off x="5561640" y="14475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20:49:32Z</dcterms:created>
  <dc:creator>Howard County Public Schools</dc:creator>
  <dc:description/>
  <dc:language>en-US</dc:language>
  <cp:lastModifiedBy>Howard County Public Schools</cp:lastModifiedBy>
  <dcterms:modified xsi:type="dcterms:W3CDTF">2010-04-14T15:03:27Z</dcterms:modified>
  <cp:revision>8</cp:revision>
  <dc:subject/>
  <dc:title>PowerPoint Presentation</dc:title>
</cp:coreProperties>
</file>