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BBE-8C31-462D-B682-D30DA8AF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62E-71D2-473C-BE9A-1D128B20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880-B2F6-4DA7-9076-9856DDA3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55F-A612-4163-A7F1-B156051E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1164-EAEF-40C3-8A2F-0A6BF2AC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BD98-C3CF-4A14-8298-2D2AC90C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C4DF-C477-4585-8809-0A3F8911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95B0-B610-4E29-9EEC-B5416D40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4495-AB74-4ADF-9CB3-12A677D1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C2D4-BC40-42C5-9D13-8918E6B0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BD2-9A8B-4648-87B9-5ABB939F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200-EFE5-49CB-B82D-AC632407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0562-CF02-41FD-A30E-8C4918CD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371-D630-40CD-981A-77BB404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3598-30A5-412B-89DA-FEF0AE2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297E-DE7B-40A1-A5A0-F6559677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0B78-CA77-4AED-84E9-A364CBD3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EA55-3F26-46A1-A4C9-0E3CB118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EF10-00E8-46DC-BC01-447DBEB3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9A5F-8A13-4C69-9742-24FDD453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3089-6972-4618-A70C-99F7E376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CD7A-D67B-4236-ACF7-30187DB3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ED1-0B1A-4718-B41C-581B8573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E9CFD-2B7C-4CCA-8CD2-63949C4F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5BB4-E5F9-4CC1-B1D6-FB55191C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429B-5F4A-42EC-8C71-97659406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8B7E-367A-4ED4-B16A-EC0FD47E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CBEC-F279-4623-91F5-BFB6B8A7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CA7F-FB7D-41A1-96C2-A53481CD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3C2C-F12A-44AA-AD13-E630D98E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38B7-3144-4F82-A5D7-17305ED4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CB5D-6493-4568-8F8D-1DAFC3FF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26ABA-4BE4-4E29-B107-494F09DE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7D8-13BE-4647-BB40-511C5490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E952-1EAD-4251-BC74-676EC9C4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5A480-E28C-4363-BC58-DABD3DEE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7D52-86E1-4EFA-B763-936C7544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B2D2A-C448-478C-9147-422F5E22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2237-E880-47DB-879C-3329EDE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7F25B-C590-4F0A-B49B-F0E7729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BFE7-3F6C-4283-B9C1-28D19219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98AA-8ABA-4BFA-847F-CC5A34EE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C632-44DF-43EC-B3CF-B4E44078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D36-08B5-4B73-8F20-A1FCEDD9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47B-9018-4EF0-8AE4-5A44F35E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943-87BE-4CAF-BB7C-CDF81DC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D96-AC7B-4FB8-B44D-51187BFF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7C8-8653-4CBB-95AE-07C29119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CFC1-941E-4A20-9FCD-C9395A3D9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EE14-0A59-465B-9DC0-744C56DE7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E1E6-CAEB-4694-ACB3-D97E4465A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8B98-E77D-4E2E-95C7-C517FF006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139920" cy="32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447920" y="914400"/>
            <a:ext cx="66294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Vowels in Bloom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800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676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hi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if the word has a long vowel or short vowe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t has a long sound choose the rule that it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tree with your correc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it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1080" y="194940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Wow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I can see your growth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l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're really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BLOOMING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00400" y="2286000"/>
            <a:ext cx="403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13919400">
            <a:off x="6018840" y="1523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781280" y="457200"/>
            <a:ext cx="5914800" cy="6172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rot="13919400">
            <a:off x="58665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7680600">
            <a:off x="4114080" y="14472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905120" y="3200400"/>
            <a:ext cx="548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SCORE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have really blosom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 rot="13918800">
            <a:off x="6158520" y="20077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 rot="13918800">
            <a:off x="6450480" y="23396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7680600">
            <a:off x="3504960" y="1752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7680600">
            <a:off x="28954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7680600">
            <a:off x="289548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7680600">
            <a:off x="365688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7680600">
            <a:off x="350496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5350200">
            <a:off x="4685760" y="20188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350200">
            <a:off x="4533480" y="26287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5350200">
            <a:off x="4381200" y="32382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7680600">
            <a:off x="4419360" y="990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rot="13919400">
            <a:off x="5561640" y="2361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 rot="13919400">
            <a:off x="4952160" y="2895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3919400">
            <a:off x="5409360" y="3124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rot="13919400">
            <a:off x="5561640" y="14475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0:49:32Z</dcterms:created>
  <dc:creator>Howard County Public Schools</dc:creator>
  <dc:description/>
  <dc:language>en-US</dc:language>
  <cp:lastModifiedBy>Howard County Public Schools</cp:lastModifiedBy>
  <dcterms:modified xsi:type="dcterms:W3CDTF">2010-04-14T15:03:27Z</dcterms:modified>
  <cp:revision>8</cp:revision>
  <dc:subject/>
  <dc:title>PowerPoint Presentation</dc:title>
</cp:coreProperties>
</file>