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41C-A8A3-4011-93D6-831E0AA1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BAB-B702-40E6-AF52-A55A1E29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840-AE76-46CB-9010-9633BBC1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2EC-446B-4DD4-BF0F-B82FFEA0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DAA0-A53E-4447-BBC6-9EAECE75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B1D5-7017-42BB-A7A0-6B6736A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9294-0AFC-4C9B-B87A-D838A71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03E6-F8D0-4E9B-A03A-6C9983A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CC63-D244-4BBC-A987-097F7887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DB29-58C7-4514-946B-515F7B96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6DE8-71EC-443D-94FA-C41A9BE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063-BE7F-4551-8349-D32FC05A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5E55-1D3C-47E0-BE47-9E84F1B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93C4-931C-4589-97F1-C6729294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2D76-5AA8-4273-BBE5-7F3BFAA8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D39E-75AC-40FE-B022-A7A2A305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60C-2592-4CB9-9063-43364533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923E-2C28-4744-AFAB-2022AA0B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A513-3480-48BC-B7B1-86405E65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CCA5-B873-4723-B4F6-05BDD05C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AD72-3059-48F8-97BA-0ABE725F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764D-29A1-40CF-92EC-F017AA8D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FF6-2E3C-4CF9-BC81-7DE916DD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7073F-1352-4014-9A38-1A7FE639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30BC-B1EA-4358-AC7E-0B98A387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BA57-ABE9-4AE1-BA90-F40FEA5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7873-A96D-4F0A-934B-86BC34A1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9C34-D613-44F4-B7FC-CE5EAC6E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14E8-FB75-4B62-A968-B8082FB3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FBF4-9253-4429-8F5E-B93DFFA5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BF22-D08D-4B0D-A043-C36E6CBF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7133-492D-4623-B148-97FC19AE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EF63-2B85-49FC-B416-2D3CC709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E29-E745-47B8-80FE-D0F64637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FC303-B6B7-4906-A8CA-CAFD058E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ED05-6DDC-481B-9DA9-17374160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7745-9557-45D1-B4B3-EA2643FB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EC13-1D95-4A15-B24B-B8C6AB1F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2261A-1931-4D3C-8E42-64CD7337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6A1D-7D06-492D-A237-C247B6C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C39B-1F9E-4AD2-A787-550F8AFC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D6C81-965C-4A18-898B-08D901B2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6432-01EB-4C85-8F82-37BCCBAD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7B5-180F-425B-94EC-4B0954BD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914-E4D1-4ED5-93E5-26AAA2F7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AFA-9D46-4224-88C1-C6EBDA5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8C0-ED6E-4B2B-9CA3-EF6A2258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B2F-25D2-4643-A970-8B42BA23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50E1-6709-4034-B700-1DB59CCD5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FDD4-5DF8-4689-AAFE-22F32E9E2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5AF3-36A6-4754-8A77-2E14CB9CB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30E0-1EDA-4E4C-A278-BD2ABCD0F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139920" cy="32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447920" y="914400"/>
            <a:ext cx="66294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Vowels in Bloom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800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676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hi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if the word has a long vowel or short vowe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t has a long sound choose the rule that it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tree with your correc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it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1080" y="194940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Wow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I can see your growth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l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're really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BLOOMING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00400" y="2286000"/>
            <a:ext cx="403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13919400">
            <a:off x="6018840" y="1523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781280" y="457200"/>
            <a:ext cx="5914800" cy="6172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rot="13919400">
            <a:off x="58665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7680600">
            <a:off x="4114080" y="14472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905120" y="3200400"/>
            <a:ext cx="548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SCORE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have really blosom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 rot="13918800">
            <a:off x="6158520" y="20077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 rot="13918800">
            <a:off x="6450480" y="23396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7680600">
            <a:off x="3504960" y="1752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7680600">
            <a:off x="28954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7680600">
            <a:off x="289548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7680600">
            <a:off x="365688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7680600">
            <a:off x="350496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5350200">
            <a:off x="4685760" y="20188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350200">
            <a:off x="4533480" y="26287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5350200">
            <a:off x="4381200" y="32382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7680600">
            <a:off x="4419360" y="990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rot="13919400">
            <a:off x="5561640" y="2361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 rot="13919400">
            <a:off x="4952160" y="2895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3919400">
            <a:off x="5409360" y="3124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rot="13919400">
            <a:off x="5561640" y="14475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0:49:32Z</dcterms:created>
  <dc:creator>Howard County Public Schools</dc:creator>
  <dc:description/>
  <dc:language>en-US</dc:language>
  <cp:lastModifiedBy>Howard County Public Schools</cp:lastModifiedBy>
  <dcterms:modified xsi:type="dcterms:W3CDTF">2010-04-14T15:03:27Z</dcterms:modified>
  <cp:revision>8</cp:revision>
  <dc:subject/>
  <dc:title>PowerPoint Presentation</dc:title>
</cp:coreProperties>
</file>