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716F-B171-4A25-92B0-31A44A2C3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5FD0-F58B-473C-A113-AB7E4053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4436-C07A-422E-8A6F-5D086602E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226C-E9B9-48C5-8483-2720FB998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D76E-EF3C-479F-824F-D0D91458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574C-0160-47E7-9570-25A430C5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7503-F567-4CAF-9764-7874EE2A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DCD4-7B5C-47B5-BAA2-9F02C6C0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5F80-5E41-4A1E-B13B-444B34DF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96D0-BC0C-4386-82E0-E7C13AD6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5C7F-B37E-4338-B8FD-C17C7302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0289-6464-4E30-91EB-8E420150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B884-DBAD-41DE-B793-45FC4E78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3309-C41B-465C-89C2-FBBE91A7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805C-062A-457A-9E92-D4800C29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C5A6-B29A-491A-B302-D0AFAC758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4253-11D8-4769-8C31-7CDDCF4A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4C42E-904A-426D-A42B-CDA250E1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37FD7-B8A6-4CED-BFAC-73CA3226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9AFEE-5C57-4C4F-A511-05792793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EF9EC-0A4B-4380-BE83-434F19CB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238F8-8207-4F82-9F2D-D55E5CEF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15E8-73BA-4D48-842E-BF3964BA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67B51-F344-4096-AC25-445E6088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E9DEC-D6CD-4962-B3DE-DF3AE0B3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93D5B-376E-46EC-8662-76972BA9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8A66D-6C05-4AE4-9D31-C5DC2731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C4C7F-F4DA-48FD-B832-AE4651E1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F43CA-CDAE-4FFC-8050-050398C9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B6B61-0AAC-49E7-AE52-259210F01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3AE02-8C14-48D8-97C9-29517D22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4E1D1-7606-4F87-91AA-A4326FBB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6D741-B270-43A9-AB75-8C1A5DF1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9CCE-E59F-4F0C-A07E-B87FE032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909CF-D054-4A42-AC7E-D3170D3E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24914-8C49-4BDC-B21E-4240B133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BC417-4159-4BCC-B876-D4BFF861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036F6-E028-46AC-B842-DED5A01E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24E43-49DF-4AA9-83CA-9CDDB415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5AFEE-2465-4180-A01D-BC31E0A0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6AF1F-9C2C-41C1-933F-8A234109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1AFC2-5AC3-4B19-81FB-8ECE3586D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5B422-66E8-40EB-9875-128101A6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0E6D-BFB6-4CCE-B9B9-0EE7EDA7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160B-02C5-4516-818D-01AA6BD0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E679-9F4E-4F9D-A471-65A4208B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B2F7-68A5-4EE9-9EE6-F504C872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AA32-B5A6-46B8-A985-CAF0432D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DAEF-5CC6-45DC-8D3F-BA465D845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E788-63ED-4EBE-85E4-B622008E5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6DD0-159F-465D-A29A-AD0B3EBA26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0DED-79DE-4B29-9F99-DEBB0072AD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048120" y="2362320"/>
            <a:ext cx="3139920" cy="3276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1447920" y="914400"/>
            <a:ext cx="6629400" cy="16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Vowels in Bloom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0" y="48006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1676520" y="4876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ra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gree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gree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chic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leaf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leaf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Comic Sans MS"/>
              </a:rPr>
              <a:t>Direction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d the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oose if the word has a long vowel or short vowel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it has a long sound choose the rule that it fol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ild a tree with your correct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try it…………………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53080" y="5105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a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a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bi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bi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nai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nai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di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1" action="ppaction://hlinksldjump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981080" y="1949400"/>
            <a:ext cx="5257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ry Again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previousslide"/>
          </p:cNvPr>
          <p:cNvSpPr/>
          <p:nvPr/>
        </p:nvSpPr>
        <p:spPr>
          <a:xfrm>
            <a:off x="4267080" y="502920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10800"/>
                </a:moveTo>
                <a:lnTo>
                  <a:pt x="20756" y="3794"/>
                </a:lnTo>
                <a:lnTo>
                  <a:pt x="20756" y="17806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04920" y="4267080"/>
            <a:ext cx="3429000" cy="17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7fc654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Wow!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7fc654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7fc654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I can see your growth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7fc654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ra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ra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bla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bla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v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v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re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gras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rId1" action="ppaction://hlinksldjump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mulch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>
            <a:hlinkClick r:id="rId1" action="ppaction://hlinksldjump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ee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ee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re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la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la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in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ee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ee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04920" y="4267080"/>
            <a:ext cx="3429000" cy="17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7fc654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You're really 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7fc654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7fc654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BLOOMING!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7fc654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re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re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rot="5350200">
            <a:off x="4838400" y="140940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ai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ai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rot="5350200">
            <a:off x="4838400" y="140940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rot="7680600">
            <a:off x="312408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mu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rot="5350200">
            <a:off x="4838400" y="140940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rot="7680600">
            <a:off x="312408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rot="7680600">
            <a:off x="3581280" y="14475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3200400" y="2286000"/>
            <a:ext cx="4038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prin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rot="5350200">
            <a:off x="4838400" y="140940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rot="7680600">
            <a:off x="312408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rot="7680600">
            <a:off x="3581280" y="14475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 rot="13919400">
            <a:off x="6018840" y="1523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8644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2"/>
          <a:stretch/>
        </p:blipFill>
        <p:spPr>
          <a:xfrm>
            <a:off x="1781280" y="457200"/>
            <a:ext cx="5914800" cy="617220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rot="5350200">
            <a:off x="4838400" y="1409400"/>
            <a:ext cx="30492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rot="7680600">
            <a:off x="3124080" y="35049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 rot="13919400">
            <a:off x="5866560" y="16761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rot="7680600">
            <a:off x="4114080" y="144720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1905120" y="3200400"/>
            <a:ext cx="54864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SCORE 2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You did i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You have really blosomed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31" name=""/>
          <p:cNvSpPr/>
          <p:nvPr/>
        </p:nvSpPr>
        <p:spPr>
          <a:xfrm flipH="1" flipV="1" rot="13918800">
            <a:off x="6158520" y="200772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H="1" flipV="1" rot="13918800">
            <a:off x="6450480" y="233964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rot="7680600">
            <a:off x="3504960" y="17524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rot="7680600">
            <a:off x="2895480" y="19810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rot="7680600">
            <a:off x="2895480" y="26668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rot="7680600">
            <a:off x="3656880" y="289512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rot="7680600">
            <a:off x="3504960" y="33526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rot="5350200">
            <a:off x="4685760" y="2018880"/>
            <a:ext cx="30492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rot="5350200">
            <a:off x="4533480" y="2628720"/>
            <a:ext cx="30456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rot="5350200">
            <a:off x="4381200" y="3238200"/>
            <a:ext cx="30492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rot="7680600">
            <a:off x="4419360" y="9903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H="1" rot="13919400">
            <a:off x="5561640" y="23619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 rot="13919400">
            <a:off x="4952160" y="28954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H="1" rot="13919400">
            <a:off x="5409360" y="31240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H="1" rot="13919400">
            <a:off x="5561640" y="14475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6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0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7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80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9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9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3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4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5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6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70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75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80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9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9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3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ra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20:49:32Z</dcterms:created>
  <dc:creator>Howard County Public Schools</dc:creator>
  <dc:description/>
  <dc:language>en-US</dc:language>
  <cp:lastModifiedBy>Howard County Public Schools</cp:lastModifiedBy>
  <dcterms:modified xsi:type="dcterms:W3CDTF">2010-04-14T15:03:27Z</dcterms:modified>
  <cp:revision>8</cp:revision>
  <dc:subject/>
  <dc:title>PowerPoint Presentation</dc:title>
</cp:coreProperties>
</file>