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C3B-F2CC-441F-89C8-9A548F76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E6C-6B5C-4ACF-851F-99EDB21C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7F35-B1EB-4185-A3A3-08D58468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491-0F99-4C12-8679-8CD72D19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2A15-BBB6-4A9D-A29C-1A1C9436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8C95-3771-467D-8403-B0749093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C825-7ADE-418A-AD5C-0FFD4480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DE04-C15B-48A6-AB16-423F09C9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0AAE-4BC9-4F2D-84B8-2F68D4E8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AC5F-FD38-46F2-A1A9-F4BE9AB8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3BDD-9FFF-47C7-A50D-C94B8780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4DC-56EE-40C6-A1D0-ADF40D69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A610-3CE9-4DBA-A355-80E6843D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8CAE-66FC-42DA-95B2-7ADE2C2D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923B-2D9C-4FCB-A3A9-7D655C62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DD42-CEC1-4266-AD5A-BF4E85FF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144E-3DCD-4C88-8624-75F7E7BA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9F862-A9C1-4027-A876-936FCC60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099EC-A305-4ECE-B2E5-793284F2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A84BE-1163-4B0B-B232-6BBA7319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B8A59-3CC1-43AE-A262-57B6C0D4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F5FA1-EA44-4991-8659-FAFC3FFF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AC5-8CF8-475C-93B3-BAFEB082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CBAD3-56CC-4CE0-9F4B-5689581C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FD281-9BCC-4D76-A8FB-7323E434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019FD-F70E-41C5-A0D3-DC990472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2255E-5015-43AC-8DC8-66579825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59E88-E381-4B15-BA1A-48EE1969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925FA-BC64-46AE-9CD7-D83FA190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C8063-F901-4FCC-8F80-2227A5BC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AD12F-C5E2-403F-B9FA-94E25AAB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F9872-95B5-4C08-9F5B-DDA3A932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C0168-1615-4377-914F-ED56CB58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A65C-E603-427D-A8E9-BD2EABDA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E4A6A-E9C9-48EB-B5CC-7BF0C360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468A6-DAC7-444D-A980-0FBA325A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3452A-4B1D-4F66-93CB-5F317BC2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D7A35-B546-4B5C-9414-FA567682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7A5F5-8B19-4BCA-B0B6-291157F1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30004-19A8-4DC8-B541-9063ECC5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2ADB7-25ED-4DF3-8A62-92E2101C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79159-6DF2-4904-8D60-397506FC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F4F8B-C945-41A5-97E7-99E0D8B4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10F-A5C5-4797-BBC6-4E9BCCCC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17E4-ACC7-4C39-85ED-42B7C565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8FA4-0E81-4473-A438-2B1A7345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898-C002-41D3-872C-1DE33559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8CFD-1FC5-421C-A04B-E0E634AC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EFFC-9C9E-4C28-B2C6-6004A7C43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8594-A52F-430B-B1C8-8FC78C250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7C18-E218-432F-AACE-245924B10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08B9-EF3E-48B6-9999-38D1689CE7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3139920" cy="3276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447920" y="914400"/>
            <a:ext cx="662940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Vowels in Bloom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8006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1676520" y="4876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chic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lea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lea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Comic Sans MS"/>
              </a:rPr>
              <a:t>Direction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if the word has a long vowel or short vowel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it has a long sound choose the rule that it fo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 a tree with your correct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try it………………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5105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n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n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di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81080" y="1949400"/>
            <a:ext cx="5257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y Again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4267080" y="502920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10800"/>
                </a:moveTo>
                <a:lnTo>
                  <a:pt x="20756" y="3794"/>
                </a:lnTo>
                <a:lnTo>
                  <a:pt x="20756" y="17806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04920" y="4267080"/>
            <a:ext cx="3429000" cy="17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Wow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I can see your growth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l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l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as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ulc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e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e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ee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ee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4267080"/>
            <a:ext cx="3429000" cy="17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're really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BLOOMING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u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7680600">
            <a:off x="3581280" y="14475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200400" y="2286000"/>
            <a:ext cx="4038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pr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7680600">
            <a:off x="3581280" y="14475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 rot="13919400">
            <a:off x="6018840" y="1523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8644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1781280" y="457200"/>
            <a:ext cx="5914800" cy="61722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rot="13919400">
            <a:off x="5866560" y="1676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rot="7680600">
            <a:off x="4114080" y="14472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905120" y="3200400"/>
            <a:ext cx="54864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SCORE 2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 did 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 have really blosomed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31" name=""/>
          <p:cNvSpPr/>
          <p:nvPr/>
        </p:nvSpPr>
        <p:spPr>
          <a:xfrm flipH="1" flipV="1" rot="13918800">
            <a:off x="6158520" y="20077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 flipV="1" rot="13918800">
            <a:off x="6450480" y="23396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7680600">
            <a:off x="3504960" y="1752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7680600">
            <a:off x="2895480" y="1981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7680600">
            <a:off x="2895480" y="26668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7680600">
            <a:off x="3656880" y="28951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rot="7680600">
            <a:off x="3504960" y="33526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rot="5350200">
            <a:off x="4685760" y="20188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5350200">
            <a:off x="4533480" y="2628720"/>
            <a:ext cx="30456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rot="5350200">
            <a:off x="4381200" y="323820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7680600">
            <a:off x="4419360" y="9903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 rot="13919400">
            <a:off x="5561640" y="2361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 rot="13919400">
            <a:off x="4952160" y="2895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 rot="13919400">
            <a:off x="5409360" y="3124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 rot="13919400">
            <a:off x="5561640" y="14475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9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20:49:32Z</dcterms:created>
  <dc:creator>Howard County Public Schools</dc:creator>
  <dc:description/>
  <dc:language>en-US</dc:language>
  <cp:lastModifiedBy>Howard County Public Schools</cp:lastModifiedBy>
  <dcterms:modified xsi:type="dcterms:W3CDTF">2010-04-14T15:03:27Z</dcterms:modified>
  <cp:revision>8</cp:revision>
  <dc:subject/>
  <dc:title>PowerPoint Presentation</dc:title>
</cp:coreProperties>
</file>